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913938" cy="674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0881-7BD1-417A-9C2D-A7D25630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7DC-F75D-45F3-B31E-71EE3AFE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B74-0474-42E3-973C-B4B74E10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CAB-C19C-4910-8F13-76FE81BC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A79-9957-4E91-BDCA-89A403D4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C59-1C04-4785-97D9-7C33DDF6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726-8EDA-4DF0-9A61-656DA691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B78-95A8-4B97-A274-F76E49BF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42C-5A6E-4BD4-9842-7919126F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5C0-D984-48DB-B04E-6D7C30F2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370-D3FD-4682-9A05-FDB47FD7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5ED-13FE-4043-8F4E-95312B84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84D9-CEC5-4355-A2C3-651B81499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400" y="352080"/>
            <a:ext cx="79250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mputer Organization Layer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86688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computer may be organized into the following layer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ication level language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igh level language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ow level language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ardware - may include microcode.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sider the case of a word processing program: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high level commands: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ave, undo, bold, center, etc.) represent the application level language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high level language might be: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cal, C/C++ or Java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low level language might be: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8000 or Intel x86 assembler or the proper assembly language for the CPU in u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15200" y="117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250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8000 Operand Size and Storage 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e 68000 uses the following suffixes to identify the size of the instruction’s operands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.B     one byte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.W   word  (2 bytes)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.L    long word  (4 bytes)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68000 memory is byte-addressed; however,  all word and long word operands in memory must start at  an even address.  For this reason the preferred memory map for 68000 assembly programs show a single word (two bytes) in each row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572000" y="1219320"/>
            <a:ext cx="3586680" cy="1143000"/>
            <a:chOff x="4572000" y="1219320"/>
            <a:chExt cx="3586680" cy="1143000"/>
          </a:xfrm>
        </p:grpSpPr>
        <p:sp>
          <p:nvSpPr>
            <p:cNvPr id="81" name=""/>
            <p:cNvSpPr/>
            <p:nvPr/>
          </p:nvSpPr>
          <p:spPr>
            <a:xfrm>
              <a:off x="4657320" y="1219320"/>
              <a:ext cx="3501360" cy="10994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When no suffix is specified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n most instruction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assume   .W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1219320"/>
              <a:ext cx="3581280" cy="114300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57200" y="4343400"/>
            <a:ext cx="45720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When storing values in memory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 most significant byte is stored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t the first address location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followed by the remaining by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xample:  Store  $AC 35 EF B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t memory address $1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943880" y="3809880"/>
            <a:ext cx="3438000" cy="1890720"/>
            <a:chOff x="4943880" y="3809880"/>
            <a:chExt cx="3438000" cy="1890720"/>
          </a:xfrm>
        </p:grpSpPr>
        <p:grpSp>
          <p:nvGrpSpPr>
            <p:cNvPr id="85" name=""/>
            <p:cNvGrpSpPr/>
            <p:nvPr/>
          </p:nvGrpSpPr>
          <p:grpSpPr>
            <a:xfrm>
              <a:off x="5715000" y="4176720"/>
              <a:ext cx="2666880" cy="761400"/>
              <a:chOff x="5715000" y="4176720"/>
              <a:chExt cx="2666880" cy="76140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5715000" y="4176720"/>
                <a:ext cx="2666880" cy="380880"/>
                <a:chOff x="5715000" y="4176720"/>
                <a:chExt cx="26668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715000" y="4176720"/>
                  <a:ext cx="266688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091280" y="4176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715000" y="4557600"/>
                <a:ext cx="2666880" cy="380520"/>
                <a:chOff x="5715000" y="4557600"/>
                <a:chExt cx="2666880" cy="3805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715000" y="4557600"/>
                  <a:ext cx="266688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091280" y="4557600"/>
                  <a:ext cx="0" cy="380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" name=""/>
            <p:cNvGrpSpPr/>
            <p:nvPr/>
          </p:nvGrpSpPr>
          <p:grpSpPr>
            <a:xfrm>
              <a:off x="5715000" y="4938480"/>
              <a:ext cx="2666880" cy="762120"/>
              <a:chOff x="5715000" y="4938480"/>
              <a:chExt cx="2666880" cy="76212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5715000" y="4938480"/>
                <a:ext cx="2666880" cy="381240"/>
                <a:chOff x="5715000" y="4938480"/>
                <a:chExt cx="2666880" cy="3812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715000" y="4938480"/>
                  <a:ext cx="2666880" cy="381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091280" y="4938480"/>
                  <a:ext cx="0" cy="381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5715000" y="5319720"/>
                <a:ext cx="2666880" cy="380880"/>
                <a:chOff x="5715000" y="5319720"/>
                <a:chExt cx="2666880" cy="3808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715000" y="5319720"/>
                  <a:ext cx="266688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091280" y="5319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" name=""/>
            <p:cNvSpPr/>
            <p:nvPr/>
          </p:nvSpPr>
          <p:spPr>
            <a:xfrm>
              <a:off x="6229080" y="3809880"/>
              <a:ext cx="183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ord  (16 bi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3880" y="4557600"/>
              <a:ext cx="323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$1000      A      C          3     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55040" y="4952880"/>
              <a:ext cx="323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$1002      E      F          B     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551280" y="571500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ry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5400720"/>
            <a:ext cx="1600200" cy="609480"/>
          </a:xfrm>
          <a:custGeom>
            <a:avLst/>
            <a:gdLst>
              <a:gd name="textAreaLeft" fmla="*/ 533520 w 1600200"/>
              <a:gd name="textAreaRight" fmla="*/ 1370520 w 160020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91520" y="-3492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xample of a Simple Motorola 68000 Assembly Language Progra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85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following assembly language program adds together the two 8-bit numbers stored in the memory locations called Value1 and Value2, and deposits the sum in Result.       Result  =  Value1 + Value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G            $400                   Start of program are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    Value1,D0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    Value2,D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D.B         D0,D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.B     D1,Resul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P           #$2700              Stop execu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G            $1000                Start of data are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lue1     DC.B            12                      Store 12 in memor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lue2     DC.B            2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ult      DS.B             1                       Reserve a byte for Resul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D            $400                  End of program and entry poin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154720" y="1522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Sum Using A Lo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erform the sum  1 + 2 + 3+...+ 10  by using a loop, or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:= 0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 COUNTER := 1  TO 10 DO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:= TOTAL  +  COUNTER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can be solved by the following 68000 Assembler code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          $400         Start of program area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R           D1            Set the total initially to 0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.B    #1,D0       Initialize the counter to 1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xt    ADD.B       D0,D1       Add the counter to the tota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.B      #1,D0        Increment the counter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MP.B      #11,D0      Check if loop is don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NE         Next          Go back for another round  if not don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P        #$2700      Stop execu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15200" y="41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Basic Assembly Program Structu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ssembly language is made up of two types of statements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xecutable Instruction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One of the processor's valid instructions which can be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ranslated into machine code form by the assembler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ssembler Directive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form the assembler about the program and the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nvironment and cannot be translated into machine code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Link symbolic names to actual values.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et up pre-defined constants.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llocate storage for data in memory. 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ntrol the assembly process.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1981080"/>
            <a:ext cx="6324480" cy="8384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3367080"/>
            <a:ext cx="7010280" cy="91440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31040" y="1522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ssembler Directives: EQU Direc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quate directive simply links a name to a value in order to make a program easier to read. It does not reserve space in memory.   For example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ACK_SP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$08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R_RET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$0D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QU directive may include expressions as well as litrals provided all elements of the expression have already been defin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ngth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idth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rea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ngth*Width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4720" y="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487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ssembler Directives:  DC Directi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93780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directiv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efines a consta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nd is qualified by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.B -  to indicate a byte, 8 bits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.W -  to indicate a word, 16 bits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.L -  to indicate a long word, 32 bits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operand may consist of: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ne or more decimal numbers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ne or more hexadecimal numbers denoted by a leading '$'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ne or more binary numbers denoted by a a leading '%'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 ASCII string enclosed in single quotes;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n expression to be evaluated.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label in the left hand column equates the label with the first address (word)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constant is loaded into memory at the current location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91520" y="41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ssembler Directives:  DS Directi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efine storag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directive reserves a storage location in memory but does not store any information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directive may be qualified by '.B', '.W' or '.L' to indicate bytes, words or long word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operand specifies the number of such quantities to reserve in decimal or hex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optional label equates to the address of the first word of storage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RG      $1000                  Starting addres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RST         DS.B       4                          Reserve 4 byte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OND    DS.W      4                         Reserve 4 wo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       DS.L       4                         Reserve 4 long wo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ABLE       DS.W     $10                      Reserve 16 wo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31040" y="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embler Directives: ORG, END Dir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rigin directive sets up the value of the location counter that tracks where the next item will be stored in memory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y be located anywhere in the program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RG      $00001000         Starting addres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RST        DS.B      4                         Reserve 4 byte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RG      $00001100         Change the memory locatio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OND   DS.W     4                         Reserve 4 wo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nd directive indicates that the end of the code has been reach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tionally specifies the place at which to start execution;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.g., END $0400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54720" y="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asic Characteristics of 68000 Assembly Langu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80460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 assembly language program line or statement is comprised of the following 4 columns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75"/>
              </a:spcBef>
              <a:buClr>
                <a:srgbClr val="000000"/>
              </a:buClr>
              <a:buSzPct val="14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Optional label which must begin in column 1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26"/>
              </a:spcBef>
              <a:buClr>
                <a:srgbClr val="000000"/>
              </a:buClr>
              <a:buSzPct val="14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n instruction;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hese are the actual instructions themselves, such as MOVE, ADD, etc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pcode fields :  The suffixes `.B', `.W', and `.L' denote a byte, word, and long-word operation, respectively. If not specified, the default  is word size (.W)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asic addressing modes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register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ress register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#n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tant or immediat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ents of memory location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75"/>
              </a:spcBef>
              <a:buClr>
                <a:srgbClr val="000000"/>
              </a:buClr>
              <a:buSzPct val="14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ts operand or operands.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75"/>
              </a:spcBef>
              <a:buClr>
                <a:srgbClr val="000000"/>
              </a:buClr>
              <a:buSzPct val="140000"/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Optional comment field.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3962520"/>
            <a:ext cx="4572000" cy="1523880"/>
          </a:xfrm>
          <a:prstGeom prst="rect">
            <a:avLst/>
          </a:prstGeom>
          <a:noFill/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31040" y="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asic Characteristics of 68000 Assembly Langu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780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line beginning with an asterisk *  in the first column is a comment and is totally ignored by the assembler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systems are represented as follows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 number without any prefix is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 number with a leading  '$'  is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hex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 number with a leading  '%'  is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binary.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losing a string in quotes represents a sequence of ASCII character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one space is required to separate the label and comment field from the instruction; but additional spaces are added for readability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ollowing data sizes apply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yte - 8 bits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ord - 16 bits   (default operand size for most instructions).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ong word - 32 bits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91520" y="-3492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Some Basic Assembly Instruc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1880" y="865080"/>
            <a:ext cx="1683360" cy="55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D0,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Q,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#Q,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Q,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D0,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R 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P Q,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P #Q,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Q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55320" y="865080"/>
            <a:ext cx="6648480" cy="51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the contents of register D0 to memory location Q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the contents of memory location Q to register D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the number Q to register 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the contents of memory location Q to re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0 and put the result in D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the contents of memory location Q to re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0 and put the results in memory location 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the content of memory location Q to z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tract the contents of memory location Q from the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register D0 in order to set up the CCR.  Discard th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tract the number Q from the contents of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0 in order to set up the CCR. Discard the res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 to N if the result of the last operation yielded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 to N if  operands of the last comparison were not eq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ways branch to location 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2080" y="53496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6640" y="53496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91520" y="41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anfred  Deutscher</cp:lastModifiedBy>
  <cp:lastPrinted>1999-11-16T21:46:11Z</cp:lastPrinted>
  <dcterms:modified xsi:type="dcterms:W3CDTF">2001-11-11T18:02:59Z</dcterms:modified>
  <cp:revision>1243</cp:revision>
  <dc:subject>Perl</dc:subject>
  <dc:title>CECS470</dc:title>
</cp:coreProperties>
</file>