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2E4A-3985-467F-B634-676D938E1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18E8-4B2D-45E3-BEE9-BEC51E1A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29B6-68E2-4FA9-981E-449F125E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08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62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08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62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0A3A-2FE0-474E-BF1C-CBCB0ECB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1951-C235-4B30-A66B-6B25BD4E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0ABA-E81C-4531-ACCE-ECE14A9E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19F4-94B0-4C45-95A5-531FA679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525D-EBE9-41A1-A218-913573CA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3BE9-3213-4A16-B628-5124D74E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BC3D-3152-46BC-88B8-D6A08F2C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1DEB-AD80-4FF7-8895-6B0974A7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2AD7-9F86-4A47-843E-9374594A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DD87-5A95-4D01-AA82-5D31FCDD9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3840" y="88920"/>
            <a:ext cx="8508960" cy="6375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26040" y="6330960"/>
            <a:ext cx="2730600" cy="368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50080" y="6254640"/>
            <a:ext cx="27302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949000" y="6207120"/>
            <a:ext cx="270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CC250 - Shaa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90160"/>
            <a:ext cx="80769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8000 Arithmetic Instr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5640" y="35244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s the contents of the source location to the contents of a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tination location and stores the result in the destinat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ource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All addressing modes; however, either source or destination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must be a data regist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Destination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All except immediate, address register direct and program relative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Effect on CCR flag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  Set  (=1) if the result  (destination) is negative,                              cleared  (=0) otherwis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 Set if the result is zero, cleared otherwis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 Set if an overflow is generated, cleared otherwis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 Set if a carry is generated, cleared otherwis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 Set the same as the carry bit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33360" y="4162320"/>
            <a:ext cx="5639040" cy="198144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ithmetic Shift Left Instr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arithmetic shift left operation  ASL  moves the bits of the operand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pecified number of positions to the left; e.g.,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L  #3,D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ifts the bits of the D0 register 3 positions to the left.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has the effect of multiplying by 2-cubed or 8.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 each bit is shifted left, it is stored in the Carry flag of the CCR.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vacant spot on the right is filled with a zero.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D0] = 00010111        Bef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L  #3,D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D0] = 10111000        After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ithmetic Shift Right Instr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arithmetic shift right operation ASR moves the bits of the operand th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ified number of positions to the right; e.g.,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R  #3, D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ifts the bits of the D0 register 3 positions to the right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has the effect of dividing by 2 for each position shifted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  exampl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D0] = 00010111        Bef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R  #3, D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D0] = 00000010         Aft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bit shifted off the right side is stored in the Carry flag of the CCR.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 the left side,  the MSB is propagated to the lef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also called sign extension). For example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D0] = 11101001     Bef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R  #3,D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D0] = 11111101       Aft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ASL-ASR-TOP" descr=""/>
          <p:cNvPicPr/>
          <p:nvPr/>
        </p:nvPicPr>
        <p:blipFill>
          <a:blip r:embed="rId1"/>
          <a:stretch/>
        </p:blipFill>
        <p:spPr>
          <a:xfrm>
            <a:off x="442800" y="125280"/>
            <a:ext cx="8382240" cy="2756160"/>
          </a:xfrm>
          <a:prstGeom prst="rect">
            <a:avLst/>
          </a:prstGeom>
          <a:ln w="0">
            <a:noFill/>
          </a:ln>
        </p:spPr>
      </p:pic>
      <p:pic>
        <p:nvPicPr>
          <p:cNvPr id="73" name="ASL-ASR-BOT" descr=""/>
          <p:cNvPicPr/>
          <p:nvPr/>
        </p:nvPicPr>
        <p:blipFill>
          <a:blip r:embed="rId2"/>
          <a:stretch/>
        </p:blipFill>
        <p:spPr>
          <a:xfrm>
            <a:off x="414360" y="2987640"/>
            <a:ext cx="838188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485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ithmetic Shift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peration of  ASL,  AS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ASL-ASR" descr=""/>
          <p:cNvPicPr/>
          <p:nvPr/>
        </p:nvPicPr>
        <p:blipFill>
          <a:blip r:embed="rId1"/>
          <a:stretch/>
        </p:blipFill>
        <p:spPr>
          <a:xfrm>
            <a:off x="533520" y="1671480"/>
            <a:ext cx="830556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Effect of Arithmetic Operations on the CCR: Examp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5560" y="15951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DD.B               SUB.B               CLR.B                  ASL.B               ASR.B  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urce   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01101011 (107)    01101011 (107)     01101011 (107)     01101011 (107)     01101011 (107)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stination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01011010 (90)       01011010 (90)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( before)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stination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11000101               11101111                 00000000              11010110               00110101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(after) 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CR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 1 0 1 0        0 1 0 0 0          - 0 1 0 0         0 1 0 1 0          1 0 0 0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XNZVC     XNZVC       XNZVC       XNZVC       XNZV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23800" y="1600200"/>
            <a:ext cx="8091720" cy="3200400"/>
            <a:chOff x="523800" y="1600200"/>
            <a:chExt cx="8091720" cy="3200400"/>
          </a:xfrm>
        </p:grpSpPr>
        <p:sp>
          <p:nvSpPr>
            <p:cNvPr id="79" name=""/>
            <p:cNvSpPr/>
            <p:nvPr/>
          </p:nvSpPr>
          <p:spPr>
            <a:xfrm>
              <a:off x="533520" y="236232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4520" y="200988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3800" y="325764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7560" y="391464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9480" y="426708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91520" y="1676520"/>
              <a:ext cx="0" cy="312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867280" y="1676520"/>
              <a:ext cx="0" cy="312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29080" y="1652760"/>
              <a:ext cx="0" cy="312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938320" y="1676520"/>
              <a:ext cx="0" cy="312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47640" y="1600200"/>
              <a:ext cx="0" cy="312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8000 Logic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28584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ic instructions includ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it-wise AND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NDI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it-wise AND with Immediate sourc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it-wise OR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RI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it-wise OR with Immediate sourc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OR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it-wise  Exclusive OR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ORI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xclusive OR with Immediate source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’s Complement of bits of destination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Times New Roman"/>
              </a:rPr>
              <a:t>Effect on CCR: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X   Not affected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   Set if the most significant bit of the result is set;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eared otherwise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Z   Set if the result is zero; cleared otherwise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V  Always cleared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  Always cleared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xamples:   AND -(A0),D1      ANDI.B #$CD,D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ANDI #%00101,CCR    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NOT.L D1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OR.L (A1)+ ,D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3581280"/>
            <a:ext cx="5943600" cy="205740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gical Shift Instr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SL   /  LS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Logical Shift Left/Righ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hifts the operand the specified number of positions left/right;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vacated bit positions are always zero-filled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hift count for the shifting of a register is specified in two different way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mediat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er:   The shift count is the value in the data register specified in the instruction modulo 64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Effect on CCR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X Set according to the last bit shifted out of the operand; unaffected for a shift count of zero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 Set if the result is negative; cleared otherwise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Z Set if the result is zero; cleared otherwise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V Always cleared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 Set according to the last bit shifted out of the operand; cleared for a shift count of zero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gical Shift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peration of LSL, LS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LSL-LSR" descr=""/>
          <p:cNvPicPr/>
          <p:nvPr/>
        </p:nvPicPr>
        <p:blipFill>
          <a:blip r:embed="rId1"/>
          <a:stretch/>
        </p:blipFill>
        <p:spPr>
          <a:xfrm>
            <a:off x="533520" y="1781280"/>
            <a:ext cx="822960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261720"/>
            <a:ext cx="800100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gical Shift Instr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56628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L / R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otate Left/Right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hifts or rotate the operand the specified number of positions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eft/right.   Bits that move off one end are put back on the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pposite end  after setting or clearing the C-bit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hift count for the shifting of a register is specified in two different way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mediat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er:  The shift count is the value in the data register specified in the instruction modulo 64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ffect on CCR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5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X  Not affected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5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 Set if the most significant bit of the result is set; cleared otherwise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5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Z  Set if the result is zero; cleared otherwise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5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V  Always cleared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5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  Set according to the last bit rotated out of the operand; cleared  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when the rotate count is zero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5080" y="69480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otate Left/Right Instructions :</a:t>
            </a:r>
            <a:br>
              <a:rPr sz="3600"/>
            </a:br>
            <a:br>
              <a:rPr sz="10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peration of  ROL, R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rol-ror" descr=""/>
          <p:cNvPicPr/>
          <p:nvPr/>
        </p:nvPicPr>
        <p:blipFill>
          <a:blip r:embed="rId1"/>
          <a:stretch/>
        </p:blipFill>
        <p:spPr>
          <a:xfrm>
            <a:off x="523800" y="2244600"/>
            <a:ext cx="830592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2" descr=""/>
          <p:cNvPicPr/>
          <p:nvPr/>
        </p:nvPicPr>
        <p:blipFill>
          <a:blip r:embed="rId1"/>
          <a:stretch/>
        </p:blipFill>
        <p:spPr>
          <a:xfrm>
            <a:off x="485640" y="216000"/>
            <a:ext cx="836784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gical Shift Ope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XL, ROXR            Rotate Left/Right with eXten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ifts the operand the specified number of positions left/right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luding the X-bit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ample:    ROXR.B  #1,D0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s bit 7 to 6, bit 6 to 5… bit 1 to  0,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s  bit 0 to the X-bit and  the X-bit to  bit 7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Effect on CCR: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Set to the value of the last bit rotated out of the operand;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unaffected when the rotate count is zero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Set if the most significant bit of the result is set; cleared otherwise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Set if the result is zero; cleared otherwise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Always cleared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Set according to the last bit rotated out of the operand; when the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otate count is zero, set to the value of the extend bit.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15328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otate Left/Right with eXtend Instructions :</a:t>
            </a:r>
            <a:br>
              <a:rPr sz="3600"/>
            </a:br>
            <a:br>
              <a:rPr sz="10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peration of  ROXL, ROX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roxl-roxr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83818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  Setting Parity Bit of  A By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The following program sets the parity bit (msb) of a byte depending on the number of 1’s in the byte using rotate.  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f number of ones is odd  parity bit is set( = 1), otherwise = 0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* D0 contains the byte of data whose parity bit is to be se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* D1 contains a temporary working copy of D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* D2 used to count that 7 bits have been tested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$40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rogram origin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#7,D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t the counter to 7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NDI.B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#%01111111,D0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lear the parity bit to star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      D0,D1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ake a working copy of D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Next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OR.B     #1,D1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otate 1 bit righ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CC         Zero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f the bit is 1 then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ORI.B   #%10000000,D0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oggle the parity bi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Zero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UB.B     #1,D2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ecrement the counter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NE         Next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heck another bi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TOP      #$270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ND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$40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553080" y="1676520"/>
            <a:ext cx="2057400" cy="1389240"/>
            <a:chOff x="6553080" y="1676520"/>
            <a:chExt cx="2057400" cy="1389240"/>
          </a:xfrm>
        </p:grpSpPr>
        <p:grpSp>
          <p:nvGrpSpPr>
            <p:cNvPr id="107" name=""/>
            <p:cNvGrpSpPr/>
            <p:nvPr/>
          </p:nvGrpSpPr>
          <p:grpSpPr>
            <a:xfrm>
              <a:off x="6553080" y="1676520"/>
              <a:ext cx="2057400" cy="823680"/>
              <a:chOff x="6553080" y="1676520"/>
              <a:chExt cx="2057400" cy="82368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6553080" y="2119320"/>
                <a:ext cx="2057400" cy="380880"/>
                <a:chOff x="6553080" y="2119320"/>
                <a:chExt cx="2057400" cy="3808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6553080" y="2119320"/>
                  <a:ext cx="2057400" cy="380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933960" y="211932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" name=""/>
              <p:cNvSpPr/>
              <p:nvPr/>
            </p:nvSpPr>
            <p:spPr>
              <a:xfrm>
                <a:off x="7070400" y="1676520"/>
                <a:ext cx="1192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One By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6781680" y="2424240"/>
              <a:ext cx="15228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65120" y="2666880"/>
              <a:ext cx="124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rity B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662940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t Manipulation Instr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609120"/>
            <a:ext cx="815364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68000 four instruction that manipulate single bits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TS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ests the value of a bit.  If zero, the Z-flag is set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SE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ts the specified bit to 1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CL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ts the specified bit to 0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CH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ggles (reverses) the specified bit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it number for this operation can be specified in one of two way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mediate:  e.g.  #0, #1, #2, ..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ister:  The specified data register contains the position of the bit to be manipulated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ions are performed on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 bit of a byte if the operand is in memory or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 bit of a long word if the operand is a data register. Thu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o instruction extension is required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9760" y="328320"/>
            <a:ext cx="80773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 Setting Parity Bit of  A By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704880"/>
            <a:ext cx="81536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The following program sets the parity bit (msb) of a byte depending on the number of 1’s in the byte.  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f number of ones is odd  parity bit is set( = 1), otherwise = 0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* D0 contains the byte of data whose parity bit is to be se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* D1 contains a counter which will range from 6 to 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RG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rogram origin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6,D1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t the counter to  6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CLR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7,D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lear the parity bit to star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Next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TST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1,D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est the bit specified by D1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EQ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Zero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f the bit is 1 then toggle parity bi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CHG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#7,D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oggle the parity bi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Zero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UB.B    #1,D1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ecrement the counter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heck another bit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#$270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705720" y="2286000"/>
            <a:ext cx="2057400" cy="1389240"/>
            <a:chOff x="6705720" y="2286000"/>
            <a:chExt cx="2057400" cy="1389240"/>
          </a:xfrm>
        </p:grpSpPr>
        <p:grpSp>
          <p:nvGrpSpPr>
            <p:cNvPr id="119" name=""/>
            <p:cNvGrpSpPr/>
            <p:nvPr/>
          </p:nvGrpSpPr>
          <p:grpSpPr>
            <a:xfrm>
              <a:off x="6705720" y="2286000"/>
              <a:ext cx="2057400" cy="823680"/>
              <a:chOff x="6705720" y="2286000"/>
              <a:chExt cx="2057400" cy="82368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6705720" y="2728800"/>
                <a:ext cx="2057400" cy="380880"/>
                <a:chOff x="6705720" y="2728800"/>
                <a:chExt cx="2057400" cy="380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6705720" y="2728800"/>
                  <a:ext cx="2057400" cy="380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086600" y="272880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" name=""/>
              <p:cNvSpPr/>
              <p:nvPr/>
            </p:nvSpPr>
            <p:spPr>
              <a:xfrm>
                <a:off x="7223040" y="2286000"/>
                <a:ext cx="1192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One By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6934320" y="3033720"/>
              <a:ext cx="15228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7760" y="3276360"/>
              <a:ext cx="124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rity B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2468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 Counting 6’s in A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414000"/>
            <a:ext cx="8381880" cy="598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region of memory starting at location $1000 contains an array  of  20 one-byte values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program counts the number of 6’s in this array and stores the count in register D1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rogram origin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rray,A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0 points to the start of the array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20,D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20 values to examin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LR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lear the 6’s count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(A0)+,D2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ick up an element from the array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MP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6,D2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Is it a 6?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NE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Not_6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IF not 6 THEN skip counter increment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DD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1,D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IF 6 THEN bump up 6’s count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Not_6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UB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1,D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crement loop count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NE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epeat 20 times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$27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Halt processor at end of program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10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rray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C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1,6,4,5,5,6,2,5,6,7,6,6,6,1,3,5,9,6,7,5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68000 Arithmetic Instruc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390600"/>
            <a:ext cx="80773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D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immediate:   Adds an immediate value to a destinat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nd and stores the results in the destination. This ca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used to add an immediate value to a memory loc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ource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Immediate value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Destination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All except address register direct, program counter relative and immediate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Effect on CCR flag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   Set  (=1)  if the result  (destination) is negative,     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eared  (=0) otherwis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  Set if the result is zero, cleared otherwis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  Set if an overflow is generated, cleared otherwis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  Set if a carry is generated, cleared otherwis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 Set the same as the carry bit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28840" y="3772080"/>
            <a:ext cx="6248160" cy="236196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3880" y="27144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8000 Arithmetic Instr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576360"/>
            <a:ext cx="80773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DX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s the contents of the source location and the X flag to th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ents of a destination location and stores the result in th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tination location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ourc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 All addressing modes; however, either source or destination must be a data register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Destination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All except immediate, address register direct and program relative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Effect on CCR flag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  Set  (=1) if the result  (destination) is negative, cleared  (=0) otherwis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 Set if the result is zero, cleared otherwis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 Set if an overflow is generated, cleared otherwis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 Set if a carry is generated, cleared otherwis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 Set the same as the carry bit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4267080"/>
            <a:ext cx="6629400" cy="190512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47560" y="11916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IVS,  DIV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IVU performs unsigned division and DIVS performs signed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ivision on two's complement numbers.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32-bit long word in the data register is divided by the 16-bit word at the effective address.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16-bit quotient is stored in the lower-order word of the register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the remainder is stored in the upper-order wor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ourc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All modes except address register direct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estination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Data register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ffect on CCR flag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  Set  if the quotient is negative, cleared otherwise.   Undefined if overflow or divide by zero occur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 Set if quotient is zero, cleared otherwise.   Undefined if overflow or divide by zero occur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 Set if division overflow occurs, cleared otherwise.   Undefined if overflow or divide by zero occur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 Always cleared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 Not affected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99840" y="252000"/>
            <a:ext cx="800100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8000 Arithmetic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8000 Arithmetic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S, MULU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ULU performs unsigned multiplication and MULS performs signed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ultiplication on two's complement numbers.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ultiplication is a 16-bit operation that multiplies the low-order 16-bit word in Dn (destination data register) by the 16-bit word at the effective address. The 32-bit results is stored in Dn.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24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Times New Roman"/>
              </a:rPr>
              <a:t>Source: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All modes except address register direct.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24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Times New Roman"/>
              </a:rPr>
              <a:t>Destination: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Data register.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24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Times New Roman"/>
              </a:rPr>
              <a:t>Effect on CCR flags: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  Set  if the result  is negative, cleared otherwis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 Set if the result is zero, cleared otherwis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 Set if an overflow, cleared otherwis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 Always cleare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Not affecte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4114800"/>
            <a:ext cx="5943600" cy="198108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1760" y="29988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gn EXTend  Instr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4756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nds the sign bit of the low-order byte or word of a data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ister of a data register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T.W sign extends the low order byte to 16 bits;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T.L  sign extends the low order word to 32 bits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0 = $000000C3      Bef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.W  D0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0= $0000FFC3      After  sign exte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1 = $0000E1FC     Bef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.L  D1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0= $FFFFE1FC    After  sign exte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124080"/>
            <a:ext cx="5257800" cy="137160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14480" y="4572000"/>
            <a:ext cx="5257800" cy="137160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  Adding Elements of An 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414000"/>
            <a:ext cx="8381880" cy="598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region of memory starting at location $1000 contains an array  of  10 one-byte  signed values (i.e.  In  2’s complement representatio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program adds the elements of this array and stores the sum in register D2 as a long wor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rogram origin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rray,A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0 points to the start of the array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10,D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10 values to add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LR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lear temporary register D1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LR.L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2                             Clear the sum regist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(A0)+,D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opy an element from the array in D1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T.W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tend  element sign to word siz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T.L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tend  element sign to long word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DD.L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1,D2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dd  array element to the sum in D2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UB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1,D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crement loop count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NE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epeat 10 times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#$27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Halt processor at end of program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10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rray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C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EF,$CD,$CC,$0A,$FF,$DA,$91,$DD,$4A,$8D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7T23:03:44Z</dcterms:created>
  <dc:creator>Shaaban</dc:creator>
  <dc:description/>
  <dc:language>en-US</dc:language>
  <cp:lastModifiedBy>Muhammad Shaaban</cp:lastModifiedBy>
  <cp:lastPrinted>1998-10-21T23:40:21Z</cp:lastPrinted>
  <dcterms:modified xsi:type="dcterms:W3CDTF">1998-10-21T23:40:23Z</dcterms:modified>
  <cp:revision>1722</cp:revision>
  <dc:subject>Perl</dc:subject>
  <dc:title>CECS470</dc:title>
</cp:coreProperties>
</file>