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68B-4F5E-4FB8-B03E-7F751671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732-0B7D-4BF6-9319-A206D62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48F-6A29-488A-ABEF-BB27E5E1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34F-36D9-45C3-B2AE-4ED5E410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533-BD8B-490F-A9B5-6B4F7B6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BCD-8231-4DCE-9FA9-BBA7A371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3C8-EFCB-42C7-8440-C69B4319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592-3AF3-468E-8EEA-6C483884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176-819A-48CB-9251-4E3EA1E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5B6-8083-4829-A95B-6C2A7E1F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0A0-9388-4959-9723-6CF632F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C4F-8C6B-4475-B684-8CBA9A6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A8E0-B3D1-4E0E-B4E5-AD5211DC3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Stack-Related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EA   &lt;EA&gt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sh Effective Address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ates an effective address &lt;ea&gt; and pushes it onto the stack pointed at by address register A7 (the stack pointer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PEA and L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 loads an effective address in any address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A pushes it onto the stac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 &lt;EA&gt;     is equivalent t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EA&gt;,A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i,-(A7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re Ai  is an address register other than A7  (A0-A6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648320"/>
            <a:ext cx="34290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8000 Addressing Modes Revisited:</a:t>
            </a:r>
            <a:br>
              <a:rPr sz="3000"/>
            </a:br>
            <a:br>
              <a:rPr sz="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dress Register Indirect Addressing with Dis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ddressing not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6(A0)       or     (d16,A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fers to the address contained  in register A0  plus a signed 16 bit displacement d16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me assembles accept only one of the above syntax form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L (12,A4),D3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MOVE.L 12(A4),D3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W (-$4,A1),D0         or        MOVE.W -$4(A1),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"/>
            <a:ext cx="7391520" cy="1523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7200" y="96696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base  B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exponent E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SP)+,D3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p answer from stack resetting SP            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W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6(SP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 from stack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4(SP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result onto the stack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1000" y="152280"/>
            <a:ext cx="3431520" cy="3110040"/>
            <a:chOff x="531000" y="152280"/>
            <a:chExt cx="3431520" cy="3110040"/>
          </a:xfrm>
        </p:grpSpPr>
        <p:grpSp>
          <p:nvGrpSpPr>
            <p:cNvPr id="121" name=""/>
            <p:cNvGrpSpPr/>
            <p:nvPr/>
          </p:nvGrpSpPr>
          <p:grpSpPr>
            <a:xfrm>
              <a:off x="2666880" y="1052640"/>
              <a:ext cx="1295640" cy="2209680"/>
              <a:chOff x="2666880" y="1052640"/>
              <a:chExt cx="1295640" cy="2209680"/>
            </a:xfrm>
          </p:grpSpPr>
          <p:sp>
            <p:nvSpPr>
              <p:cNvPr id="122" name=""/>
              <p:cNvSpPr/>
              <p:nvPr/>
            </p:nvSpPr>
            <p:spPr>
              <a:xfrm>
                <a:off x="266688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6252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666880" y="1281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25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29574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666880" y="457200"/>
              <a:ext cx="1295640" cy="442800"/>
              <a:chOff x="2666880" y="457200"/>
              <a:chExt cx="1295640" cy="442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66880" y="9000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80360" y="4572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057400" y="1981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880" y="1828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000" y="15228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7524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22096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6200" y="220968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3480" y="182880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7360" y="251460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04080" y="3505320"/>
            <a:ext cx="3354120" cy="2705040"/>
            <a:chOff x="5104080" y="3505320"/>
            <a:chExt cx="3354120" cy="2705040"/>
          </a:xfrm>
        </p:grpSpPr>
        <p:grpSp>
          <p:nvGrpSpPr>
            <p:cNvPr id="140" name=""/>
            <p:cNvGrpSpPr/>
            <p:nvPr/>
          </p:nvGrpSpPr>
          <p:grpSpPr>
            <a:xfrm>
              <a:off x="7148520" y="3505320"/>
              <a:ext cx="1295280" cy="442800"/>
              <a:chOff x="7148520" y="3505320"/>
              <a:chExt cx="1295280" cy="442800"/>
            </a:xfrm>
          </p:grpSpPr>
          <p:sp>
            <p:nvSpPr>
              <p:cNvPr id="141" name=""/>
              <p:cNvSpPr/>
              <p:nvPr/>
            </p:nvSpPr>
            <p:spPr>
              <a:xfrm>
                <a:off x="7148520" y="39481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61280" y="3505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162920" y="4000680"/>
              <a:ext cx="1295280" cy="2209680"/>
              <a:chOff x="7162920" y="4000680"/>
              <a:chExt cx="1295280" cy="2209680"/>
            </a:xfrm>
          </p:grpSpPr>
          <p:sp>
            <p:nvSpPr>
              <p:cNvPr id="144" name=""/>
              <p:cNvSpPr/>
              <p:nvPr/>
            </p:nvSpPr>
            <p:spPr>
              <a:xfrm>
                <a:off x="716292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820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162920" y="4229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52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5905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920" y="4776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4080" y="3786120"/>
              <a:ext cx="146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d of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5157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6912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5334120"/>
              <a:ext cx="14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67200" y="509760"/>
            <a:ext cx="3514680" cy="3109320"/>
            <a:chOff x="4867200" y="509760"/>
            <a:chExt cx="3514680" cy="3109320"/>
          </a:xfrm>
        </p:grpSpPr>
        <p:sp>
          <p:nvSpPr>
            <p:cNvPr id="155" name=""/>
            <p:cNvSpPr/>
            <p:nvPr/>
          </p:nvSpPr>
          <p:spPr>
            <a:xfrm>
              <a:off x="4941000" y="50976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077240" y="1409760"/>
              <a:ext cx="1295280" cy="2209320"/>
              <a:chOff x="7077240" y="1409760"/>
              <a:chExt cx="1295280" cy="2209320"/>
            </a:xfrm>
          </p:grpSpPr>
          <p:sp>
            <p:nvSpPr>
              <p:cNvPr id="157" name=""/>
              <p:cNvSpPr/>
              <p:nvPr/>
            </p:nvSpPr>
            <p:spPr>
              <a:xfrm>
                <a:off x="707724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7252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077240" y="1500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7240" y="2933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77240" y="1861920"/>
              <a:ext cx="12952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077240" y="814320"/>
              <a:ext cx="1295280" cy="442440"/>
              <a:chOff x="7077240" y="814320"/>
              <a:chExt cx="1295280" cy="442440"/>
            </a:xfrm>
          </p:grpSpPr>
          <p:sp>
            <p:nvSpPr>
              <p:cNvPr id="163" name=""/>
              <p:cNvSpPr/>
              <p:nvPr/>
            </p:nvSpPr>
            <p:spPr>
              <a:xfrm>
                <a:off x="7077240" y="1256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90000" y="814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467400" y="16383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77240" y="2185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7200" y="142380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77240" y="2566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6200" y="256680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3840" y="218592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67400" y="31003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95160" y="28717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13680" y="149544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3271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706720" y="1881000"/>
              <a:ext cx="308880" cy="990000"/>
              <a:chOff x="5706720" y="1881000"/>
              <a:chExt cx="308880" cy="990000"/>
            </a:xfrm>
          </p:grpSpPr>
          <p:sp>
            <p:nvSpPr>
              <p:cNvPr id="176" name=""/>
              <p:cNvSpPr/>
              <p:nvPr/>
            </p:nvSpPr>
            <p:spPr>
              <a:xfrm>
                <a:off x="5857920" y="25664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57920" y="188100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6720" y="2109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531360" y="3276720"/>
            <a:ext cx="3454920" cy="3109680"/>
            <a:chOff x="531360" y="3276720"/>
            <a:chExt cx="3454920" cy="3109680"/>
          </a:xfrm>
        </p:grpSpPr>
        <p:grpSp>
          <p:nvGrpSpPr>
            <p:cNvPr id="180" name=""/>
            <p:cNvGrpSpPr/>
            <p:nvPr/>
          </p:nvGrpSpPr>
          <p:grpSpPr>
            <a:xfrm>
              <a:off x="2666880" y="4176720"/>
              <a:ext cx="1295640" cy="2209680"/>
              <a:chOff x="2666880" y="4176720"/>
              <a:chExt cx="1295640" cy="2209680"/>
            </a:xfrm>
          </p:grpSpPr>
          <p:sp>
            <p:nvSpPr>
              <p:cNvPr id="181" name=""/>
              <p:cNvSpPr/>
              <p:nvPr/>
            </p:nvSpPr>
            <p:spPr>
              <a:xfrm>
                <a:off x="266688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6252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666880" y="4267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5700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6880" y="462924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666880" y="3581280"/>
              <a:ext cx="1295640" cy="443160"/>
              <a:chOff x="2666880" y="3581280"/>
              <a:chExt cx="1295640" cy="443160"/>
            </a:xfrm>
          </p:grpSpPr>
          <p:sp>
            <p:nvSpPr>
              <p:cNvPr id="187" name=""/>
              <p:cNvSpPr/>
              <p:nvPr/>
            </p:nvSpPr>
            <p:spPr>
              <a:xfrm>
                <a:off x="2666880" y="40244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80360" y="3581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666880" y="4952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360" y="3276720"/>
              <a:ext cx="178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85800" y="4191120"/>
              <a:ext cx="1905120" cy="398880"/>
              <a:chOff x="685800" y="4191120"/>
              <a:chExt cx="1905120" cy="398880"/>
            </a:xfrm>
          </p:grpSpPr>
          <p:sp>
            <p:nvSpPr>
              <p:cNvPr id="192" name=""/>
              <p:cNvSpPr/>
              <p:nvPr/>
            </p:nvSpPr>
            <p:spPr>
              <a:xfrm>
                <a:off x="2057400" y="44053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5800" y="4191120"/>
                <a:ext cx="14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745720" y="5181480"/>
              <a:ext cx="1093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3680" y="426240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6600" y="6039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0640" y="533412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6720" y="5029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720" y="55627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85080" y="5715000"/>
              <a:ext cx="1905840" cy="398880"/>
              <a:chOff x="685080" y="5715000"/>
              <a:chExt cx="1905840" cy="398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5929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080" y="5715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22860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480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080" y="4648320"/>
            <a:ext cx="308880" cy="990000"/>
            <a:chOff x="1144080" y="4648320"/>
            <a:chExt cx="308880" cy="990000"/>
          </a:xfrm>
        </p:grpSpPr>
        <p:sp>
          <p:nvSpPr>
            <p:cNvPr id="207" name=""/>
            <p:cNvSpPr/>
            <p:nvPr/>
          </p:nvSpPr>
          <p:spPr>
            <a:xfrm>
              <a:off x="1295280" y="5333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5280" y="46483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4080" y="4876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53880" y="6143760"/>
            <a:ext cx="8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1800" y="17136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1520" y="147600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         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Base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Exponent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Answer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       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2(SP),SP            Stack clean-up:  stack pointer reset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(SP),A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Base address  in A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8(SP),A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Exponent address  in A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A3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Answer address address in A3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1)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3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result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45120" y="809640"/>
            <a:ext cx="3507480" cy="4876920"/>
            <a:chOff x="645120" y="809640"/>
            <a:chExt cx="3507480" cy="4876920"/>
          </a:xfrm>
        </p:grpSpPr>
        <p:sp>
          <p:nvSpPr>
            <p:cNvPr id="217" name=""/>
            <p:cNvSpPr/>
            <p:nvPr/>
          </p:nvSpPr>
          <p:spPr>
            <a:xfrm>
              <a:off x="2857320" y="3453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57320" y="4538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320" y="4891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823840" y="1100160"/>
              <a:ext cx="1295640" cy="443160"/>
              <a:chOff x="2823840" y="1100160"/>
              <a:chExt cx="1295640" cy="443160"/>
            </a:xfrm>
          </p:grpSpPr>
          <p:sp>
            <p:nvSpPr>
              <p:cNvPr id="221" name=""/>
              <p:cNvSpPr/>
              <p:nvPr/>
            </p:nvSpPr>
            <p:spPr>
              <a:xfrm>
                <a:off x="2823840" y="15433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37320" y="110016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17152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7320" y="3824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120" y="80964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9920" y="240984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57320" y="41720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013400" y="4491000"/>
              <a:ext cx="1753560" cy="398880"/>
              <a:chOff x="1013400" y="4491000"/>
              <a:chExt cx="1753560" cy="398880"/>
            </a:xfrm>
          </p:grpSpPr>
          <p:sp>
            <p:nvSpPr>
              <p:cNvPr id="229" name=""/>
              <p:cNvSpPr/>
              <p:nvPr/>
            </p:nvSpPr>
            <p:spPr>
              <a:xfrm>
                <a:off x="2233440" y="4719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13400" y="4491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857320" y="27622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7320" y="3119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260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5732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57320" y="1819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57320" y="2428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57320" y="21384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12120" y="382932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3880" y="312444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4720" y="241488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74400" y="828720"/>
            <a:ext cx="3507480" cy="4876920"/>
            <a:chOff x="4874400" y="828720"/>
            <a:chExt cx="3507480" cy="4876920"/>
          </a:xfrm>
        </p:grpSpPr>
        <p:sp>
          <p:nvSpPr>
            <p:cNvPr id="242" name=""/>
            <p:cNvSpPr/>
            <p:nvPr/>
          </p:nvSpPr>
          <p:spPr>
            <a:xfrm>
              <a:off x="7086600" y="3471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4557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49100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053120" y="1119240"/>
              <a:ext cx="1295640" cy="442800"/>
              <a:chOff x="7053120" y="1119240"/>
              <a:chExt cx="1295640" cy="442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053120" y="15620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66600" y="11192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086600" y="3843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4400" y="82872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0800" y="1971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86360" y="17431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4191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242680" y="4510080"/>
              <a:ext cx="1753560" cy="398880"/>
              <a:chOff x="5242680" y="4510080"/>
              <a:chExt cx="1753560" cy="398880"/>
            </a:xfrm>
          </p:grpSpPr>
          <p:sp>
            <p:nvSpPr>
              <p:cNvPr id="254" name=""/>
              <p:cNvSpPr/>
              <p:nvPr/>
            </p:nvSpPr>
            <p:spPr>
              <a:xfrm>
                <a:off x="6462720" y="473868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42680" y="451008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086600" y="27813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3138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86600" y="1838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86600" y="2448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86600" y="2157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1400" y="384804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3160" y="314316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4000" y="243360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87680" y="1819440"/>
              <a:ext cx="11530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366400" y="1812960"/>
            <a:ext cx="581760" cy="2379960"/>
            <a:chOff x="8366400" y="1812960"/>
            <a:chExt cx="581760" cy="2379960"/>
          </a:xfrm>
        </p:grpSpPr>
        <p:sp>
          <p:nvSpPr>
            <p:cNvPr id="268" name=""/>
            <p:cNvSpPr/>
            <p:nvPr/>
          </p:nvSpPr>
          <p:spPr>
            <a:xfrm>
              <a:off x="8366400" y="1812960"/>
              <a:ext cx="4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66760" y="37940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29040" y="3108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67120" y="234612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284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57200" y="2733840"/>
            <a:ext cx="1828800" cy="1676160"/>
            <a:chOff x="457200" y="2733840"/>
            <a:chExt cx="1828800" cy="1676160"/>
          </a:xfrm>
        </p:grpSpPr>
        <p:sp>
          <p:nvSpPr>
            <p:cNvPr id="274" name=""/>
            <p:cNvSpPr/>
            <p:nvPr/>
          </p:nvSpPr>
          <p:spPr>
            <a:xfrm>
              <a:off x="566640" y="3143160"/>
              <a:ext cx="13716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     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2733840"/>
              <a:ext cx="1828800" cy="1676160"/>
            </a:xfrm>
            <a:prstGeom prst="rightArrow">
              <a:avLst>
                <a:gd name="adj1" fmla="val 50000"/>
                <a:gd name="adj2" fmla="val 27277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495680" y="3048120"/>
            <a:ext cx="2057400" cy="685800"/>
            <a:chOff x="4495680" y="3048120"/>
            <a:chExt cx="2057400" cy="685800"/>
          </a:xfrm>
        </p:grpSpPr>
        <p:sp>
          <p:nvSpPr>
            <p:cNvPr id="277" name=""/>
            <p:cNvSpPr/>
            <p:nvPr/>
          </p:nvSpPr>
          <p:spPr>
            <a:xfrm>
              <a:off x="4569120" y="3200760"/>
              <a:ext cx="1750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SR      POW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304812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7640" y="83808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 after 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876560" y="838080"/>
            <a:ext cx="3657960" cy="4876920"/>
            <a:chOff x="4876560" y="838080"/>
            <a:chExt cx="3657960" cy="4876920"/>
          </a:xfrm>
        </p:grpSpPr>
        <p:sp>
          <p:nvSpPr>
            <p:cNvPr id="282" name=""/>
            <p:cNvSpPr/>
            <p:nvPr/>
          </p:nvSpPr>
          <p:spPr>
            <a:xfrm>
              <a:off x="723924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3924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924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205760" y="1128600"/>
              <a:ext cx="1295280" cy="443160"/>
              <a:chOff x="7205760" y="1128600"/>
              <a:chExt cx="1295280" cy="443160"/>
            </a:xfrm>
          </p:grpSpPr>
          <p:sp>
            <p:nvSpPr>
              <p:cNvPr id="286" name=""/>
              <p:cNvSpPr/>
              <p:nvPr/>
            </p:nvSpPr>
            <p:spPr>
              <a:xfrm>
                <a:off x="720576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1852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23924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6680" y="838080"/>
              <a:ext cx="20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ean-up in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560" y="4114800"/>
              <a:ext cx="164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924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395320" y="4519440"/>
              <a:ext cx="1752840" cy="398880"/>
              <a:chOff x="5395320" y="4519440"/>
              <a:chExt cx="1752840" cy="398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61500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9532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23924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924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345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924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924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924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924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09480" y="1128600"/>
            <a:ext cx="3858480" cy="4586400"/>
            <a:chOff x="609480" y="1128600"/>
            <a:chExt cx="3858480" cy="4586400"/>
          </a:xfrm>
        </p:grpSpPr>
        <p:sp>
          <p:nvSpPr>
            <p:cNvPr id="303" name=""/>
            <p:cNvSpPr/>
            <p:nvPr/>
          </p:nvSpPr>
          <p:spPr>
            <a:xfrm>
              <a:off x="259092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557440" y="1128600"/>
              <a:ext cx="1295280" cy="443160"/>
              <a:chOff x="2557440" y="1128600"/>
              <a:chExt cx="1295280" cy="443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55744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7020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59092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1080" y="2670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4382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092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47000" y="4519440"/>
              <a:ext cx="1752840" cy="398880"/>
              <a:chOff x="747000" y="4519440"/>
              <a:chExt cx="1752840" cy="398880"/>
            </a:xfrm>
          </p:grpSpPr>
          <p:sp>
            <p:nvSpPr>
              <p:cNvPr id="314" name=""/>
              <p:cNvSpPr/>
              <p:nvPr/>
            </p:nvSpPr>
            <p:spPr>
              <a:xfrm>
                <a:off x="196668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00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59092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92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9092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5720" y="385776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07120" y="31528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68320" y="244332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86560" y="2446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920" y="38098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6920" y="31240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86560" y="45561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4916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572000" y="2971800"/>
            <a:ext cx="2057400" cy="685800"/>
            <a:chOff x="4572000" y="2971800"/>
            <a:chExt cx="2057400" cy="685800"/>
          </a:xfrm>
        </p:grpSpPr>
        <p:sp>
          <p:nvSpPr>
            <p:cNvPr id="332" name=""/>
            <p:cNvSpPr/>
            <p:nvPr/>
          </p:nvSpPr>
          <p:spPr>
            <a:xfrm>
              <a:off x="4648320" y="311148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    12(SP),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0" y="297180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57200" y="2924280"/>
            <a:ext cx="1295280" cy="685800"/>
            <a:chOff x="457200" y="2924280"/>
            <a:chExt cx="1295280" cy="685800"/>
          </a:xfrm>
        </p:grpSpPr>
        <p:sp>
          <p:nvSpPr>
            <p:cNvPr id="335" name=""/>
            <p:cNvSpPr/>
            <p:nvPr/>
          </p:nvSpPr>
          <p:spPr>
            <a:xfrm>
              <a:off x="601200" y="3079800"/>
              <a:ext cx="648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" y="2924280"/>
              <a:ext cx="1295280" cy="685800"/>
            </a:xfrm>
            <a:prstGeom prst="rightArrow">
              <a:avLst>
                <a:gd name="adj1" fmla="val 50000"/>
                <a:gd name="adj2" fmla="val 47218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VE Multiple:  MOVEM  Instr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instruction saves or restores multiple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eful in subroutines to save the values of registers not used to pass parameters.    MOVEM has two form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register_list,&lt;ea&g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&lt;ea&gt;,register_lis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effect on CC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 Saving/restoring registers to from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SAVEBLOCK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D0-D7/A0-A6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SAVEBLOCK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Saving/restoring registers using the stack (preferred method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-(SP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D0-D7/A0-A6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(SP)+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 from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Power Calculation Sub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ubroutine is needed which accepts two integers as  input parameter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base, B  (a signed integer), Size = one byte    (range:    -128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27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exponent E (a positive integer)  Size = one by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, compute the function 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E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  of answer = long wor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al specification (pseudo code) of subroutine POWER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(B, 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  = B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input arguments,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 = E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exponent, a positive integ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D3 to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answer initialized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le  D2  &gt;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 =  D1*D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mpute function  u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= D2  - 1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ntinued product of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Flow Chart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838080"/>
            <a:ext cx="5873040" cy="5166720"/>
            <a:chOff x="533520" y="838080"/>
            <a:chExt cx="5873040" cy="5166720"/>
          </a:xfrm>
        </p:grpSpPr>
        <p:grpSp>
          <p:nvGrpSpPr>
            <p:cNvPr id="54" name=""/>
            <p:cNvGrpSpPr/>
            <p:nvPr/>
          </p:nvGrpSpPr>
          <p:grpSpPr>
            <a:xfrm>
              <a:off x="1066680" y="1295280"/>
              <a:ext cx="2286000" cy="4709520"/>
              <a:chOff x="1066680" y="1295280"/>
              <a:chExt cx="2286000" cy="47095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266840" y="4481280"/>
                <a:ext cx="1828800" cy="1523520"/>
                <a:chOff x="1266840" y="4481280"/>
                <a:chExt cx="1828800" cy="1523520"/>
              </a:xfrm>
            </p:grpSpPr>
            <p:sp>
              <p:nvSpPr>
                <p:cNvPr id="56" name=""/>
                <p:cNvSpPr/>
                <p:nvPr/>
              </p:nvSpPr>
              <p:spPr>
                <a:xfrm flipH="1">
                  <a:off x="12668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1812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668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1812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66680" y="1295280"/>
                <a:ext cx="2286000" cy="1295280"/>
                <a:chOff x="1066680" y="1295280"/>
                <a:chExt cx="2286000" cy="1295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066680" y="1295280"/>
                  <a:ext cx="2286000" cy="1295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293120" y="1447560"/>
                  <a:ext cx="182196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1 =  ba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 expon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1066680" y="2895480"/>
                <a:ext cx="2286000" cy="533160"/>
                <a:chOff x="1066680" y="2895480"/>
                <a:chExt cx="2286000" cy="53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066680" y="289548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277640" y="2985840"/>
                  <a:ext cx="164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D3 * D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066680" y="3657240"/>
                <a:ext cx="2286000" cy="533160"/>
                <a:chOff x="1066680" y="3657240"/>
                <a:chExt cx="228600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066680" y="365724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77280" y="3747600"/>
                  <a:ext cx="1483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D2  -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598760" y="5028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2  =  0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09680" y="34286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09680" y="259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42051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>
              <a:off x="533520" y="52574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838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2600" y="899640"/>
              <a:ext cx="0" cy="43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2880" y="91404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1040" y="466236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62160" y="52434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7800" y="4724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77680" y="4890960"/>
              <a:ext cx="192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343400" y="838080"/>
            <a:ext cx="4191120" cy="3809880"/>
            <a:chOff x="4343400" y="838080"/>
            <a:chExt cx="4191120" cy="3809880"/>
          </a:xfrm>
        </p:grpSpPr>
        <p:grpSp>
          <p:nvGrpSpPr>
            <p:cNvPr id="82" name=""/>
            <p:cNvGrpSpPr/>
            <p:nvPr/>
          </p:nvGrpSpPr>
          <p:grpSpPr>
            <a:xfrm>
              <a:off x="6781680" y="1890360"/>
              <a:ext cx="1295640" cy="2210040"/>
              <a:chOff x="6781680" y="1890360"/>
              <a:chExt cx="1295640" cy="2210040"/>
            </a:xfrm>
          </p:grpSpPr>
          <p:sp>
            <p:nvSpPr>
              <p:cNvPr id="83" name=""/>
              <p:cNvSpPr/>
              <p:nvPr/>
            </p:nvSpPr>
            <p:spPr>
              <a:xfrm>
                <a:off x="678168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07732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781680" y="21189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3414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03336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81680" y="3795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781680" y="1295280"/>
              <a:ext cx="1295640" cy="442800"/>
              <a:chOff x="6781680" y="1295280"/>
              <a:chExt cx="1295640" cy="442800"/>
            </a:xfrm>
          </p:grpSpPr>
          <p:sp>
            <p:nvSpPr>
              <p:cNvPr id="90" name=""/>
              <p:cNvSpPr/>
              <p:nvPr/>
            </p:nvSpPr>
            <p:spPr>
              <a:xfrm>
                <a:off x="6781680" y="17380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95160" y="1295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799880" y="2422440"/>
              <a:ext cx="1905480" cy="1008720"/>
              <a:chOff x="4799880" y="2422440"/>
              <a:chExt cx="1905480" cy="1008720"/>
            </a:xfrm>
          </p:grpSpPr>
          <p:sp>
            <p:nvSpPr>
              <p:cNvPr id="93" name=""/>
              <p:cNvSpPr/>
              <p:nvPr/>
            </p:nvSpPr>
            <p:spPr>
              <a:xfrm>
                <a:off x="4799880" y="2422440"/>
                <a:ext cx="1355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P du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rout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2200" y="28191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648320" y="3276360"/>
              <a:ext cx="1868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and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f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rout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5880" y="3566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266688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2666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6600" y="838080"/>
              <a:ext cx="27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ffect on The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838080"/>
              <a:ext cx="419112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WER: Four Parameter Passing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’ll examine four assembly versions of subroutine POWER and sample Main programs that calls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version uses a different parameter passing metho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data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address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819520"/>
            <a:ext cx="7696080" cy="2743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result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MULS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y result with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rement power by 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,A1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1  points to base numb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,A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2  points to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 answer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 Continued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1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number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09:30:16Z</cp:lastPrinted>
  <dcterms:modified xsi:type="dcterms:W3CDTF">1998-09-24T09:39:51Z</dcterms:modified>
  <cp:revision>2449</cp:revision>
  <dc:subject>Perl</dc:subject>
  <dc:title>CECS470</dc:title>
</cp:coreProperties>
</file>