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C69-5821-4ED9-942D-CBFD463C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9D30-5EB4-4203-BFB7-6BF090CC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6DF-574C-40DC-8BA4-858C8313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3A9-52D3-4F33-BC7B-384131EE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012-5161-4AAE-8503-5BCFA763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DC6-D347-4D3F-A2B2-A8E13047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171-6A3E-4B44-915E-BC0A3B38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2CB-7E3B-4623-99A3-029AEA1D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F8A-4527-447D-9889-488240E7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194-6419-48B7-AB0E-8676ADD0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9E42-EFDF-4E0F-8866-27A2A1EF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78A-E4A4-4BFD-BD50-32D99A03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BBCE-3C64-46B2-AA05-CC5A573AE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90160"/>
            <a:ext cx="80769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5640" y="35244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s the contents of the source location to the contents of 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tination location and stores the result in the destin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ource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All addressing modes; however, either source or destinatio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ust be a data regis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All except immediate, address register direct and program relativ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  Set  (=1) if the result  (destination) is negative,                              cleared  (=0)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Set if the result is zero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Set if an overflow is generated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 Set if a carry is generated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 Set the same as the carry bi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33360" y="4162320"/>
            <a:ext cx="5639040" cy="19814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ithmetic Shift Left I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rithmetic shift left operation  ASL  moves the bits of the operand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pecified number of positions to the left; e.g.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L  #3,D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ifts the bits of the D0 register 3 positions to the left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has the effect of multiplying by 2-cubed or 8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each bit is shifted left, it is stored in the Carry flag of the CCR.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vacant spot on the right is filled with a zero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D0] = 00010111        Bef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L  #3,D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D0] = 10111000        Aft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ithmetic Shift Right I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rithmetic shift right operation ASR moves the bits of the operand th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ied number of positions to the right; e.g.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R  #3, D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ifts the bits of the D0 register 3 positions to the right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has the effect of dividing by 2 for each position shifted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  exampl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D0] = 00010111        Bef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R  #3, D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D0] = 00000010         Af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it shifted off the right side is stored in the Carry flag of the CCR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the left side,  the MSB is propagated to the lef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lso called sign extension). For example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D0] = 11101001     Bef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R  #3,D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D0] = 11111101       Af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SL-ASR-TOP" descr=""/>
          <p:cNvPicPr/>
          <p:nvPr/>
        </p:nvPicPr>
        <p:blipFill>
          <a:blip r:embed="rId1"/>
          <a:stretch/>
        </p:blipFill>
        <p:spPr>
          <a:xfrm>
            <a:off x="442800" y="125280"/>
            <a:ext cx="8382240" cy="2756160"/>
          </a:xfrm>
          <a:prstGeom prst="rect">
            <a:avLst/>
          </a:prstGeom>
          <a:ln w="0">
            <a:noFill/>
          </a:ln>
        </p:spPr>
      </p:pic>
      <p:pic>
        <p:nvPicPr>
          <p:cNvPr id="73" name="ASL-ASR-BOT" descr=""/>
          <p:cNvPicPr/>
          <p:nvPr/>
        </p:nvPicPr>
        <p:blipFill>
          <a:blip r:embed="rId2"/>
          <a:stretch/>
        </p:blipFill>
        <p:spPr>
          <a:xfrm>
            <a:off x="414360" y="2987640"/>
            <a:ext cx="8381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485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ithmetic Shift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of  ASL,  AS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ASL-ASR" descr=""/>
          <p:cNvPicPr/>
          <p:nvPr/>
        </p:nvPicPr>
        <p:blipFill>
          <a:blip r:embed="rId1"/>
          <a:stretch/>
        </p:blipFill>
        <p:spPr>
          <a:xfrm>
            <a:off x="533520" y="1671480"/>
            <a:ext cx="830556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Effect of Arithmetic Operations on the CCR: Examp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5560" y="15951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.B               SUB.B               CLR.B                  ASL.B               ASR.B 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ce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01101011 (107)    01101011 (107)     01101011 (107)     01101011 (107)     01101011 (107)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tination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01011010 (90)       01011010 (90)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 before)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stination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1000101               11101111                 00000000              11010110               00110101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after)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C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1 0 1 0        0 1 0 0 0          - 0 1 0 0         0 1 0 1 0          1 0 0 0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NZVC     XNZVC       XNZVC       XNZVC       XNZV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23800" y="1600200"/>
            <a:ext cx="8091720" cy="3200400"/>
            <a:chOff x="523800" y="1600200"/>
            <a:chExt cx="8091720" cy="3200400"/>
          </a:xfrm>
        </p:grpSpPr>
        <p:sp>
          <p:nvSpPr>
            <p:cNvPr id="79" name=""/>
            <p:cNvSpPr/>
            <p:nvPr/>
          </p:nvSpPr>
          <p:spPr>
            <a:xfrm>
              <a:off x="533520" y="236232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4520" y="200988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3800" y="32576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7560" y="39146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480" y="426708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91520" y="167652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67280" y="167652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29080" y="165276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38320" y="167652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47640" y="160020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00 Logic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8584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 instructions includ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AND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I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AND with Immediate sourc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O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I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OR with Immediate sourc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O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 Exclusive OR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ORI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clusive OR with Immediate sourc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’s Complement of bits of destinatio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Effect on CCR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   Not affect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   Set if the most significant bit of the result is set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Z   Set if the result is zero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 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 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amples:   AND -(A0),D1      ANDI.B #$CD,D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ANDI #%00101,CCR  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OT.L 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OR.L (A1)+ 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581280"/>
            <a:ext cx="5943600" cy="20574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Shift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SL   /  LS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Logical Shift Left/R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ifts the operand the specified number of positions left/right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acated bit positions are always zero-filled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hift count for the shifting of a register is specified in two different way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:   The shift count is the value in the data register specified in the instruction modulo 64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ffect on CCR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 Set according to the last bit shifted out of the operand; unaffected for a shift count of zero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 Set if the result is negative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Z Set if the result is zero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 Set according to the last bit shifted out of the operand; cleared for a shift count of zero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Shift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of LSL, LS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SL-LSR" descr=""/>
          <p:cNvPicPr/>
          <p:nvPr/>
        </p:nvPicPr>
        <p:blipFill>
          <a:blip r:embed="rId1"/>
          <a:stretch/>
        </p:blipFill>
        <p:spPr>
          <a:xfrm>
            <a:off x="533520" y="1781280"/>
            <a:ext cx="822960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6172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Shift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56628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 / R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otate Left/Righ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ifts or rotate the operand the specified number of positions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ft/right.   Bits that move off one end are put back on the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posite end  after setting or clearing the C-bit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hift count for the shifting of a register is specified in two different way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:  The shift count is the value in the data register specified in the instruction modulo 64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ffect on CCR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  Not affect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 Set if the most significant bit of the result is set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Z  Set if the result is zero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 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  Set according to the last bit rotated out of the operand; cleared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hen the rotate count is zero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5080" y="69480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tate Left/Right Instructions :</a:t>
            </a:r>
            <a:br>
              <a:rPr sz="3600"/>
            </a:br>
            <a:br>
              <a:rPr sz="1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of  ROL, 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rol-ror" descr=""/>
          <p:cNvPicPr/>
          <p:nvPr/>
        </p:nvPicPr>
        <p:blipFill>
          <a:blip r:embed="rId1"/>
          <a:stretch/>
        </p:blipFill>
        <p:spPr>
          <a:xfrm>
            <a:off x="523800" y="2244600"/>
            <a:ext cx="83059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2" descr=""/>
          <p:cNvPicPr/>
          <p:nvPr/>
        </p:nvPicPr>
        <p:blipFill>
          <a:blip r:embed="rId1"/>
          <a:stretch/>
        </p:blipFill>
        <p:spPr>
          <a:xfrm>
            <a:off x="485640" y="216000"/>
            <a:ext cx="83678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Shift 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XL, ROXR            Rotate Left/Right with eXte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fts the operand the specified number of positions left/righ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luding the X-bi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:    ROXR.B  #1,D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s bit 7 to 6, bit 6 to 5… bit 1 to  0,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s  bit 0 to the X-bit and  the X-bit to  bit 7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ffect on CCR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Set to the value of the last bit rotated out of the operand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naffected when the rotate count is zero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Set if the most significant bit of the result is set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Set if the result is zero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Set according to the last bit rotated out of the operand; when the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tate count is zero, set to the value of the extend bit.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tate Left/Right with eXtend Instructions :</a:t>
            </a:r>
            <a:br>
              <a:rPr sz="3600"/>
            </a:br>
            <a:br>
              <a:rPr sz="1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of  ROXL, ROX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oxl-roxr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3818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Setting Parity Bit of  A 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following program sets the parity bit (msb) of a byte depending on the number of 1’s in the byte using rotate. 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f number of ones is odd  parity bit is set( = 1), otherwise = 0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0 contains the byte of data whose parity bit is to be se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1 contains a temporary working copy of D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2 used to count that 7 bits have been tested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$4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gram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#7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t the counter to 7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I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#%01111111,D0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the parity bit to star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      D0,D1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ke a working copy of D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ext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OR.B     #1,D1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otate 1 bit righ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CC         Zero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f the bit is 1 the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ORI.B   #%10000000,D0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oggle the parity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Zero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.B     #1,D2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the count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NE         Next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heck another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TOP      #$27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ND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$4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553080" y="1676520"/>
            <a:ext cx="2057400" cy="1389240"/>
            <a:chOff x="6553080" y="1676520"/>
            <a:chExt cx="2057400" cy="1389240"/>
          </a:xfrm>
        </p:grpSpPr>
        <p:grpSp>
          <p:nvGrpSpPr>
            <p:cNvPr id="107" name=""/>
            <p:cNvGrpSpPr/>
            <p:nvPr/>
          </p:nvGrpSpPr>
          <p:grpSpPr>
            <a:xfrm>
              <a:off x="6553080" y="1676520"/>
              <a:ext cx="2057400" cy="823680"/>
              <a:chOff x="6553080" y="1676520"/>
              <a:chExt cx="2057400" cy="82368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6553080" y="2119320"/>
                <a:ext cx="2057400" cy="380880"/>
                <a:chOff x="6553080" y="2119320"/>
                <a:chExt cx="2057400" cy="3808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553080" y="2119320"/>
                  <a:ext cx="205740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933960" y="21193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7070400" y="1676520"/>
                <a:ext cx="119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ne By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6781680" y="2424240"/>
              <a:ext cx="152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65120" y="266688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rity B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6294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t Manipulation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6091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68000 four instruction that manipulate single bit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TS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sts the value of a bit.  If zero, the Z-flag is set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S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ts the specified bit to 1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CL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ts the specified bit to 0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CH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ggles (reverses) the specified bit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t number for this operation can be specified in one of two way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mediate:  e.g.  #0, #1, #2, ..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ster:  The specified data register contains the position of the bit to be manipulated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ns are performed 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 bit of a byte if the operand is in memory o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 bit of a long word if the operand is a data register. Thu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 instruction extension is required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9760" y="32832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Setting Parity Bit of  A By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70488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following program sets the parity bit (msb) of a byte depending on the number of 1’s in the byte. 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f number of ones is odd  parity bit is set( = 1), otherwise = 0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0 contains the byte of data whose parity bit is to be se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1 contains a counter which will range from 6 to 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gram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6,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t the counter to  6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CL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7,D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the parity bit to star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ext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TS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,D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st the bit specified by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EQ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Zero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f the bit is 1 then toggle parity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CH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7,D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oggle the parity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Zero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.B    #1,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the count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heck another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#$27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705720" y="2286000"/>
            <a:ext cx="2057400" cy="1389240"/>
            <a:chOff x="6705720" y="2286000"/>
            <a:chExt cx="2057400" cy="1389240"/>
          </a:xfrm>
        </p:grpSpPr>
        <p:grpSp>
          <p:nvGrpSpPr>
            <p:cNvPr id="119" name=""/>
            <p:cNvGrpSpPr/>
            <p:nvPr/>
          </p:nvGrpSpPr>
          <p:grpSpPr>
            <a:xfrm>
              <a:off x="6705720" y="2286000"/>
              <a:ext cx="2057400" cy="823680"/>
              <a:chOff x="6705720" y="2286000"/>
              <a:chExt cx="2057400" cy="82368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6705720" y="2728800"/>
                <a:ext cx="2057400" cy="380880"/>
                <a:chOff x="6705720" y="2728800"/>
                <a:chExt cx="205740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705720" y="2728800"/>
                  <a:ext cx="205740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086600" y="272880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7223040" y="2286000"/>
                <a:ext cx="119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ne By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934320" y="3033720"/>
              <a:ext cx="152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7760" y="327636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rity B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 Counting 6’s in A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414000"/>
            <a:ext cx="8381880" cy="59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region of memory starting at location $1000 contains an array  of  20 one-byte value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program counts the number of 6’s in this array and stores the count in register D1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ogram origin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,A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0 points to the start of the arra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20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20 values to examin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R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ear the 6’s cou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A0)+,D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ick up an element from the arra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MP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6,D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s it a 6?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ot_6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not 6 THEN skip counter incremen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1,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6 THEN bump up 6’s cou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ot_6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B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1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rement loop cou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peat 20 tim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alt processor at end of program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10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,6,4,5,5,6,2,5,6,7,6,6,6,1,3,5,9,6,7,5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39060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immediate:   Adds an immediate value to a destin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and stores the results in the destination. This ca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used to add an immediate value to a memory loc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ource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Immediate valu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All except address register direct, program counter relative and immediat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  Set  (=1)  if the result  (destination) is negative,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eared  (=0)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 Set if the result is zero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 Set if an overflow is generated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 Set if a carry is generated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Set the same as the carry bi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28840" y="3772080"/>
            <a:ext cx="6248160" cy="2361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3880" y="27144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57636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s the contents of the source location and the X flag to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nts of a destination location and stores the result i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tination locatio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our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 All addressing modes; however, either source or destination must be a data register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All except immediate, address register direct and program relativ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  Set  (=1) if the result  (destination) is negative, cleared  (=0)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Set if the result is zero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Set if an overflow is generated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 Set if a carry is generated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 Set the same as the carry bi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4267080"/>
            <a:ext cx="6629400" cy="190512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47560" y="11916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VS,  DIV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IVU performs unsigned division and DIVS performs signed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ivision on two's complement numbers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32-bit long word in the data register is divided by the 16-bit word at the effective address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16-bit quotient is stored in the lower-order word of the register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the remainder is stored in the upper-order wor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ourc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All modes except address register direc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Data regist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  Set  if the quotient is negative, cleared otherwise.   Undefined if overflow or divide by zero occur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Set if quotient is zero, cleared otherwise.   Undefined if overflow or divide by zero occur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Set if division overflow occurs, cleared otherwise.   Undefined if overflow or divide by zero occur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 Always clear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 Not affect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99840" y="25200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S, MUL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ULU performs unsigned multiplication and MULS performs signed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ultiplication on two's complement numbers.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ultiplication is a 16-bit operation that multiplies the low-order 16-bit word in Dn (destination data register) by the 16-bit word at the effective address. The 32-bit results is stored in Dn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Source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All modes except address register direct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Data register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 Set  if the result  is negative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Set if the result is zero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Set if an overflow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Always clear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Not affect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4114800"/>
            <a:ext cx="5943600" cy="198108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1760" y="29988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 EXTend  I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756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s the sign bit of the low-order byte or word of a dat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er of a data register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T.W sign extends the low order byte to 16 bits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T.L  sign extends the low order word to 32 bit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0 = $000000C3      Bef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.W  D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0= $0000FFC3      After  sign exte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1 = $0000E1FC     Bef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.L  D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0= $FFFFE1FC    After  sign exte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24080"/>
            <a:ext cx="5257800" cy="13716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4480" y="4572000"/>
            <a:ext cx="5257800" cy="13716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Adding Elements of An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414000"/>
            <a:ext cx="8381880" cy="59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region of memory starting at location $1000 contains an array  of  10 one-byte  signed values (i.e.  In  2’s complement representatio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program adds the elements of this array and stores the sum in register D2 as a long wor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ogram origin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,A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0 points to the start of the arra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10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0 values to add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R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ear temporary register D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R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2                             Clear the sum regis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A0)+,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opy an element from the array in D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end  element sign to word siz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end  element sign to long word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,D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  array element to the sum in D2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B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1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rement loop cou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peat 10 tim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alt processor at end of program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10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EF,$CD,$CC,$0A,$FF,$DA,$91,$DD,$4A,$8D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uhammad Shaaban</cp:lastModifiedBy>
  <cp:lastPrinted>1998-10-21T23:40:21Z</cp:lastPrinted>
  <dcterms:modified xsi:type="dcterms:W3CDTF">1998-10-21T23:40:23Z</dcterms:modified>
  <cp:revision>1722</cp:revision>
  <dc:subject>Perl</dc:subject>
  <dc:title>CECS470</dc:title>
</cp:coreProperties>
</file>