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A9F9-72AB-4D47-8EE4-E7287DDF6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80010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440" y="3729960"/>
            <a:ext cx="80010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3621-F8A7-40DB-B891-A13DB8462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85120" y="114300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440" y="372996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85120" y="372996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229C-9F83-4055-A339-9BAA817B0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25761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90840" y="1143000"/>
            <a:ext cx="25761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6240" y="1143000"/>
            <a:ext cx="25761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440" y="3729960"/>
            <a:ext cx="25761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90840" y="3729960"/>
            <a:ext cx="25761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6240" y="3729960"/>
            <a:ext cx="25761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5EEA-788A-4DB7-B2D7-1505F8615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22B3-5DEF-4A45-BCBF-921BC86C3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FFBA-F3EF-4D79-8886-E09FE64F4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39042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85120" y="1143000"/>
            <a:ext cx="39042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5869-E5D9-49AA-ACA9-901770245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530D-E7FA-4281-A42C-6128C147F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440" y="22860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8AAE-FBF1-48C2-86DF-AC4718277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5120" y="1143000"/>
            <a:ext cx="39042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440" y="372996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E50D-F073-463B-88B0-A3BAA53C1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39042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5120" y="114300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85120" y="372996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D4C6-5A7E-441A-A410-AB4F3A799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5120" y="114300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440" y="3729960"/>
            <a:ext cx="80010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A38C-B0C5-46E0-AB30-538821069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1F059-431A-4AC3-BF62-8206FE901C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440" y="11430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93840" y="88920"/>
            <a:ext cx="8508960" cy="6375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026040" y="6330960"/>
            <a:ext cx="2730600" cy="368280"/>
          </a:xfrm>
          <a:prstGeom prst="rect">
            <a:avLst/>
          </a:prstGeom>
          <a:solidFill>
            <a:srgbClr val="9191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950080" y="6254640"/>
            <a:ext cx="273024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5949000" y="6207120"/>
            <a:ext cx="2707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ECC250 - Shaab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71400" y="256680"/>
            <a:ext cx="792504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68000 Addressing Mod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762120"/>
            <a:ext cx="838188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524"/>
              </a:spcBef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Addressing modes are concerned about the way that data is accessed 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524"/>
              </a:spcBef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Addressing can be by actual address or based on a offset from 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a known position. 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524"/>
              </a:spcBef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Theoretically, only absolute addressing is required; however, other addressing modes are introduced in order to  improve efficiency. 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bsolute Addressing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Absolute Addressing uses the actual address of an operand;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either a memory location  (e.g.,   CLR.B $1234)    or,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If a register is involved, this type is also called data register direct,    e.g.,  MOVE.B  D2,$2000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mmediate Addressing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With Immediate Addressing, the actual operand is part of the instruction;  e.g.,  MOVE.B  #25,D2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366400" y="14400"/>
            <a:ext cx="57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II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1536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ad Effective Address,  LEA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1760" y="914040"/>
            <a:ext cx="80010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Instruction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Action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A $0010FFFF,A5           Loads the absolute addres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A (A0),A5                       Loads the contents of another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dress registe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A (12,A0),A5                  Loads the contents of an address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gister plus a displacemen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A (12,A0,D4.L),A5        Loads the contents of an address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gister plus a data register plu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displacement (used for index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dressing)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001000" y="22860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II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42600" y="361800"/>
            <a:ext cx="8001000" cy="7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30240" bIns="30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Times New Roman"/>
              </a:rPr>
              <a:t>Compare Instructions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160" y="685440"/>
            <a:ext cx="83055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l compare instructions subtract the contents of one register (or memory location) from the contents of another register (or memory location) in order to set the CCR (except the X-bit).   The results of the subtraction are discarded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compare instructions include the following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MP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Source operand:  Any of the addressing modes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Destination:  Must be a data register. 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MPA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Source operand:  Any of the addressing modes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Destination:  Must be an address register.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CMP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Source operand is an immediate value 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Destination:  Any of the addressing modes except address  register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direct  or immediate. 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MPM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Compares one memory location with another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Only addressing mode permitted is address register  indirect with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auto- incrementing. 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985160" y="90360"/>
            <a:ext cx="69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II.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4905360" cy="30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Compare Instructio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438120"/>
            <a:ext cx="8305920" cy="573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CMP  &lt;source&gt;,&lt;destination&gt; 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The compare instruction,  CMP &lt;source&gt;,&lt;destination&gt;, subtracts the source operand from the  destination operand and updates the bits of the condition code register (CCR), accordingly.   The result of the subtraction are discarded.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CMP  or other compare instructions  is usually followed immediately by a conditional branch (e.g., BEQ branch on zero, BNE branch on  zero, BGT branch if greater than, BLT branch if less than, etc).  Consider the high-level construct: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MOVE.B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X,D0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CMP.B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Y,D0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Evaluate  X - Y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BGE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X_Bigger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If  X  is greater or equal to Y  branch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MOVE.B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Q,P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IF  X &lt; Y  THEN  P = Q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BRA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Exit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X_Bigger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  MOVE.B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R,P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IF  X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=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Y  THEN  P = R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Exit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   STOP #$2700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Exit point for code-fragment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338360" y="3200400"/>
            <a:ext cx="3170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F  X &lt; Y  THEN  P = 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LSE P = 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191120" y="3200400"/>
            <a:ext cx="3657600" cy="76212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8213760" y="166680"/>
            <a:ext cx="69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II.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cmp" descr=""/>
          <p:cNvPicPr/>
          <p:nvPr/>
        </p:nvPicPr>
        <p:blipFill>
          <a:blip r:embed="rId1"/>
          <a:stretch/>
        </p:blipFill>
        <p:spPr>
          <a:xfrm>
            <a:off x="380880" y="533520"/>
            <a:ext cx="8305920" cy="57243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8213760" y="90360"/>
            <a:ext cx="69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II.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cmpa" descr=""/>
          <p:cNvPicPr/>
          <p:nvPr/>
        </p:nvPicPr>
        <p:blipFill>
          <a:blip r:embed="rId1"/>
          <a:stretch/>
        </p:blipFill>
        <p:spPr>
          <a:xfrm>
            <a:off x="457200" y="263520"/>
            <a:ext cx="8305920" cy="5904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8137440" y="852480"/>
            <a:ext cx="69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II.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cmpm" descr=""/>
          <p:cNvPicPr/>
          <p:nvPr/>
        </p:nvPicPr>
        <p:blipFill>
          <a:blip r:embed="rId1"/>
          <a:stretch/>
        </p:blipFill>
        <p:spPr>
          <a:xfrm>
            <a:off x="685800" y="158760"/>
            <a:ext cx="8077320" cy="59911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8001000" y="762120"/>
            <a:ext cx="69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II.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0100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nditional Branch Instruc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120" y="5331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dentified by mnemonic Bcc where "cc" represents the condition to be checked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neral form: Bcc  Address_Label.  If the condition is true, then control will branch to "Address_Label"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nemonic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struction               Branch Taken If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NE               Branch on not equal                   Z=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Q               Branch on equal                         Z=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PL               Branch on not negative              N=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MI               Branch on negative                     N=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CC               Branch on carry clear                C=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CS                Branch on carry set                   C=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VC               Branch on overflow clear          V=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VS                Branch on overflow set              V=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153280" y="228600"/>
            <a:ext cx="69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II.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Conditional Branch Instructions </a:t>
            </a:r>
            <a:br>
              <a:rPr sz="3400"/>
            </a:b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For Signed Comparis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nemonic           Instruction                      Branch Taken If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GE           Branch on greater than or equal            ( N=1 AND V=1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   (N = 0 AND V=0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GT           Branch on greater than               (N=1 AND  V=1  AND Z=0)   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  (N=0  AND V=0  AND Z=0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LE           Branch on less than or equal      Z=1   OR   ( N=1  AND V=0) 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   (N=0  AND V =1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LT             Branch on less than                             (N=1 AND V=0)    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  (N=0  AND V=1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213760" y="90360"/>
            <a:ext cx="69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II.1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500040" y="18050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Mnemonic         Instruction                    Branch Taken If 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HS, BCC           Branch on higher than or equal             C=0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HI                      Branch on higher than                            C=0  AND   Z=0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LS                      Branch on less than or equal                  C=1   AND   Z=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LO,  BCS          Branch on less than                                  C=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9480" y="457200"/>
            <a:ext cx="8001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nditional Branch Instructions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or Unsigned Compari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061480" y="31896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137440" y="90360"/>
            <a:ext cx="69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II.1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71040" y="299520"/>
            <a:ext cx="80010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Unconditional Branch Instruction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3520" y="762120"/>
            <a:ext cx="815328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wo types of unconditional branch instructions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BRA    Address_Label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Branches to a statically determined address indicated by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Address_Label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Examples: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R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BRA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EXIT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JMP    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Jump to an address that can be changed during execution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MP (A0)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MP D0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143000" y="1219320"/>
            <a:ext cx="7162920" cy="2438280"/>
          </a:xfrm>
          <a:prstGeom prst="rect">
            <a:avLst/>
          </a:prstGeom>
          <a:noFill/>
          <a:ln w="1260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95240" y="3838680"/>
            <a:ext cx="7925040" cy="2286000"/>
          </a:xfrm>
          <a:prstGeom prst="rect">
            <a:avLst/>
          </a:prstGeom>
          <a:noFill/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228600"/>
            <a:ext cx="69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II.1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7000" y="299520"/>
            <a:ext cx="784836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68000 Addressing Mod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dress Register Indirect Addressing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This addressing mode uses the 8 address registers.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These registers are assumed to contain the address of the data rather than the data itself.    e.g.   CLR.B  (A0)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dress Register Indirect with Post-incrementing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A variation of address register indirect in which the operand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address is incremented after the operation is performed. The  syntax is     (Ai)+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dress Register Indirect with Pre-decrementing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a variation of address register indirect in which the operand is decremented before the operation is performed. The syntax is        -(Ai)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213760" y="90360"/>
            <a:ext cx="57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II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bra" descr=""/>
          <p:cNvPicPr/>
          <p:nvPr/>
        </p:nvPicPr>
        <p:blipFill>
          <a:blip r:embed="rId1"/>
          <a:stretch/>
        </p:blipFill>
        <p:spPr>
          <a:xfrm>
            <a:off x="457200" y="398520"/>
            <a:ext cx="8305920" cy="54212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8213760" y="1157400"/>
            <a:ext cx="69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II.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pecial Instructions for Address Regis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85716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an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ddress register is specifie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as th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estinatio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perand, then the following address register instructions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VEA,     ADDA,     SUBA,     CMP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ust be used instead of MOVE, ADD, SUB and CMP,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pectively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dress instructions only apply to words and long word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the case of a word operation, the source operand is sign extended to a long word,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e.g, $0004 becomes $00000004 and $FFF4 becomes   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$FFFFFFF4. 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dress instructions do not change any of the bits of the CCR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061480" y="166680"/>
            <a:ext cx="69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II.2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010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  Min(X,Y) Using Compariso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120" y="53316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This program demonstrates how to find the smaller of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* two numbers X and Y using the comparison operator.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*   if (X &lt;= Y) then  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*      D0 := X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*   else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*       D0 := Y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*   X and Y are stored in memory and the result of   the comparison is stored in 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*   register D0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ORG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$400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Program origin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MOVE.B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X,D0                 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Store X in D0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CMP.B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Y,D0                  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Compare Y and D0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BLE  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Exit                           Branch if X &lt;= Y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MOVE.B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Y,D0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Otherwise, Y is smaller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Exit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STOP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 #$2700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Halt processor at end of program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ORG 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 $1000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X    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DC.B 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DC.B 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END  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077320" y="152280"/>
            <a:ext cx="69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II.2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15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xample: Comparing Two Memory Block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520" y="45720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This program compares two blocks of memory.   If the memory is equal, then FF is stored in address register D0, otherwise, 00 is stored. 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ORG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  $400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Program origin 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LEA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  Block1,A0     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Point to the beginning of memory block 1 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LEA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  Block2,A1     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Point to the beginning of memory block 2 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MOVE.W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  #Size,D0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Store the long word count in size 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LOOP       CMPM.L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  (A0)+,(A1)+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Compare the long words 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BNE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  NotEq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Branch if not equal 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SUBQ.W      #1,D0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Otherwise, decrement the count 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BNE             LOOP         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Go back for another comparison 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CLR.L         D0            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Two strings are equal so set  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MOVE.B     #$FF,D0        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 D0 to FF 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BRA             Exit 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NotEq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CLR.L         D0           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Otherwise, set D0 to 00 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Exit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STOP           #$2700           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Size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EQU            2             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Compare 2 words 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ORG    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 $600            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Block1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DC.L          'Bloc',’1234' 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Block 1 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ORG           $700 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Block2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DC.L         'Bloc',’1234 ' 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Block 2 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END           $400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137440" y="166680"/>
            <a:ext cx="69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II.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8001000" cy="7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30240" bIns="302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xample:  Reversing a Str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762120"/>
            <a:ext cx="845820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This program reverses the contents of a string.  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 address register A0  points to the beginning of the string 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 address register A1 points to the end of the string.  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se pointers move towards each other and  swap bytes until the A0 pointer meets or passes A1.  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egister D0 is used for temporary storage. 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ORG      $400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Program origin 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* This section moves the A1 pointer to the end (0 character) of the string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LEA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String,A1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Point to the beginning of the string 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Loop1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TST.B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(A1)+            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Move to the end of the string 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BNE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Loop1                Until the EOS is encountered 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SUBA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#1,A1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Back up to the EOS 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137440" y="90360"/>
            <a:ext cx="69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II.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:  Reversing a String 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609120"/>
            <a:ext cx="830592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spcBef>
                <a:spcPts val="499"/>
              </a:spcBef>
              <a:buNone/>
              <a:tabLst>
                <a:tab algn="l" pos="0"/>
                <a:tab algn="dec" pos="5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is section swaps the bytes at the opposite ends and moves the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dec" pos="5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*  pointers  towards the  middle of the string until they meet.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524"/>
              </a:spcBef>
              <a:buNone/>
              <a:tabLst>
                <a:tab algn="l" pos="0"/>
                <a:tab algn="dec" pos="5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LEA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      String,A0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Make A0 point to the beginning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524"/>
              </a:spcBef>
              <a:buNone/>
              <a:tabLst>
                <a:tab algn="l" pos="0"/>
                <a:tab algn="dec" pos="5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Loop2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MOVE.B   -(A1),D0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Save the bottom byte 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524"/>
              </a:spcBef>
              <a:buNone/>
              <a:tabLst>
                <a:tab algn="l" pos="0"/>
                <a:tab algn="dec" pos="5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CMP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     A1,A0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If A0 has reached or passed A1 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524"/>
              </a:spcBef>
              <a:buNone/>
              <a:tabLst>
                <a:tab algn="l" pos="0"/>
                <a:tab algn="dec" pos="5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BHS           Exit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Then the string is reversed          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524"/>
              </a:spcBef>
              <a:buNone/>
              <a:tabLst>
                <a:tab algn="l" pos="0"/>
                <a:tab algn="dec" pos="5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MOVE.B   (A0),(A1)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Move the top to the bottom byte 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524"/>
              </a:spcBef>
              <a:buNone/>
              <a:tabLst>
                <a:tab algn="l" pos="0"/>
                <a:tab algn="dec" pos="5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MOVE.B   D0,(A0)+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Move the previously saved bottom byte 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524"/>
              </a:spcBef>
              <a:buNone/>
              <a:tabLst>
                <a:tab algn="l" pos="0"/>
                <a:tab algn="dec" pos="5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*                                                   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to the top byte 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524"/>
              </a:spcBef>
              <a:buNone/>
              <a:tabLst>
                <a:tab algn="l" pos="0"/>
                <a:tab algn="dec" pos="5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BRA            Loop2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Loop back for another byte 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524"/>
              </a:spcBef>
              <a:buNone/>
              <a:tabLst>
                <a:tab algn="l" pos="0"/>
                <a:tab algn="dec" pos="5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Exit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STOP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      #$2700 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524"/>
              </a:spcBef>
              <a:buNone/>
              <a:tabLst>
                <a:tab algn="l" pos="0"/>
                <a:tab algn="dec" pos="5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ORG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      $1000        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524"/>
              </a:spcBef>
              <a:buNone/>
              <a:tabLst>
                <a:tab algn="l" pos="0"/>
                <a:tab algn="dec" pos="5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String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DS.B           128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Reserve up to 128 bytes for the string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524"/>
              </a:spcBef>
              <a:buNone/>
              <a:tabLst>
                <a:tab algn="l" pos="0"/>
                <a:tab algn="dec" pos="5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END           $400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137440" y="166680"/>
            <a:ext cx="69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II.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57150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dress Register Indirect with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st-incrementing / Pre-decremen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MOVE.B (A0)+,D3              Byte data addressed by A0 are copied to D3.  Then   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the contents of A0 are incremented by 1.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MOVE.W (A0)+,D3            The word data addressed by A0 are copied to D3.   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                                         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Then the contents of  A0 are incremented by 2.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MOVE.L (A0)+,D3              The long word data addressed by A0 are copied to 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D3. Then the contents  of A0 are incremented by 4.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MOVE.B -(A0),D3              The address stored in A0 is first decremented by 1.           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                                         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Then the data addressed are copied to D3.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MOVE.W -(A0),D3             The address stored in A0 is first decremented by 2.    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                                         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Then the data  addressed   are copied to D3.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MOVE.L -(A0),D3              The address stored in A0 is first decremented by 4.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                                         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Then the data addressed are copied to D3.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173640" y="304920"/>
            <a:ext cx="208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290080" y="90360"/>
            <a:ext cx="57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II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01000" cy="15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ata Movement Instru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160" y="533160"/>
            <a:ext cx="830556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A total of 13 instructions  in all:  MOVE, MOVEA, MOVE to CCR, MOVE to SR, MOVE from SR, MOVE USP, MOVEM,  MOVEQ, MOVEP, LEA, PEA, EXG, SWAP 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MOVE copies data from one location to another and may be qualified by ".B" to move 8 bits; ".W" to move 16 bits;  and ".L" to move 32 bits. 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MOVE does not change the source location only the destination location. 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MOVE updates the CCR: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N  Set  (=1) if the result  (destination) is negative, cleared  (=0) otherwise.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Z Set if the result is zero, cleared otherwise.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V Always  cleared.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C Always cleared.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X Not affected.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OVE.B D1,D2            Register to register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OVE.B D1,1234         Register to memory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OVE.B 1234,D1         Memory to register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OVE.B 1234,2000      Memory to memory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OVE.B #4,D0              Literal to register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OVE.B #4,1234            Literal to memory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366400" y="90360"/>
            <a:ext cx="57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II.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move" descr=""/>
          <p:cNvPicPr/>
          <p:nvPr/>
        </p:nvPicPr>
        <p:blipFill>
          <a:blip r:embed="rId1"/>
          <a:stretch/>
        </p:blipFill>
        <p:spPr>
          <a:xfrm>
            <a:off x="466560" y="444600"/>
            <a:ext cx="8325000" cy="52768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8366400" y="14400"/>
            <a:ext cx="57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II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37920" y="304560"/>
            <a:ext cx="79246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ata Movement Instruc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609120"/>
            <a:ext cx="807732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MOVEA  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Copies a source operand to an address register. May use  only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".W”  and ".L". In the case of ".W", the source  operand is sign 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extended.   No effect on CCR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7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Source Operand:   All addressing modes.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7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Destination Operand:  Address register direct.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Move to CCR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Copies the lower order byte of the operand to the CCR register.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7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Source Operand: All except address register direct.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7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Destination Operand: CCR register.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EXG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Exchanges the entire 32-bit contents of two registers. Frequently used to 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copy an address register to a data register for processing.  No effect on CCR.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7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Source Operand: Address or data register.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7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Destination Operand:  Address or data register.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290080" y="90360"/>
            <a:ext cx="57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II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movea" descr=""/>
          <p:cNvPicPr/>
          <p:nvPr/>
        </p:nvPicPr>
        <p:blipFill>
          <a:blip r:embed="rId1"/>
          <a:stretch/>
        </p:blipFill>
        <p:spPr>
          <a:xfrm>
            <a:off x="452520" y="1055520"/>
            <a:ext cx="8324640" cy="39848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8290080" y="90360"/>
            <a:ext cx="57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II.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Data Movement Instruction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1120" y="761760"/>
            <a:ext cx="8076960" cy="457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WAP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xchanges the upper and lower order words of a data register.  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499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Source Operand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Data register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499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Destination Operand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N/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499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CCR set according to resulting register value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EA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Copies an effective address into an address register.  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499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Source Operand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l except data register, address register direct, address register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direct with pre-decrement or post-increment or immediate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499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Destination Operand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Address register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499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No effect on CCR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290080" y="166680"/>
            <a:ext cx="57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II.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lea" descr=""/>
          <p:cNvPicPr/>
          <p:nvPr/>
        </p:nvPicPr>
        <p:blipFill>
          <a:blip r:embed="rId1"/>
          <a:stretch/>
        </p:blipFill>
        <p:spPr>
          <a:xfrm>
            <a:off x="457200" y="1254240"/>
            <a:ext cx="8381880" cy="37224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8290080" y="243000"/>
            <a:ext cx="57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II.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0-07T23:03:44Z</dcterms:created>
  <dc:creator>Shaaban</dc:creator>
  <dc:description/>
  <dc:language>en-US</dc:language>
  <cp:lastModifiedBy>Manfred  Deutscher</cp:lastModifiedBy>
  <cp:lastPrinted>1998-10-09T19:56:13Z</cp:lastPrinted>
  <dcterms:modified xsi:type="dcterms:W3CDTF">2001-11-22T20:00:16Z</dcterms:modified>
  <cp:revision>1560</cp:revision>
  <dc:subject>Perl</dc:subject>
  <dc:title>CECS470</dc:title>
</cp:coreProperties>
</file>