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913938" cy="6746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EFC1-3FC5-43E3-B5CF-73665CB13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0905-B127-489D-BA51-9FE0B5C2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1F87-1571-426D-B4D7-69C76DB9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08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62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08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62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D356-D842-4DC8-8305-86B2031D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6230-97E1-4508-BF13-B12AF0EF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75AE-5217-4073-8152-6A2A430F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3431-4911-4B50-93A8-B9171069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31BE-82C4-4BFD-8C86-AAEC9E78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EBC8-A097-4510-A170-1AF9A040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9DC8-44F6-468A-92A0-15AA421E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8790-011B-4CDE-AEB0-618DF839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8325-A542-4A9E-BA33-5385CD90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CBC6-F108-40AD-BD49-0331A271C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3840" y="88920"/>
            <a:ext cx="8508960" cy="6375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26040" y="6330960"/>
            <a:ext cx="2730600" cy="368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50080" y="6254640"/>
            <a:ext cx="27302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949000" y="6207120"/>
            <a:ext cx="270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CC250 - Shaa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1400" y="352080"/>
            <a:ext cx="792504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mputer Organization Layer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86688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 computer may be organized into the following layers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pplication level language 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High level language 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Low level language 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Hardware - may include microcode. 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sider the case of a word processing program: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he high level commands: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save, undo, bold, center, etc.) represent the application level language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he high level language might be: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cal, C/C++ or Java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he low level language might be: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8000 or Intel x86 assembler or the proper assembly language for the CPU in us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215200" y="11736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2504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8000 Operand Size and Storage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6094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he 68000 uses the following suffixes to identify the size of the instruction’s operands: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.B     one byte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.W   word  (2 bytes)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.L    long word  (4 bytes)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68000 memory is byte-addressed; however,  all word and long word operands in memory must start at  an even address.  For this reason the preferred memory map for 68000 assembly programs show a single word (two bytes) in each row.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572000" y="1219320"/>
            <a:ext cx="3586680" cy="1143000"/>
            <a:chOff x="4572000" y="1219320"/>
            <a:chExt cx="3586680" cy="1143000"/>
          </a:xfrm>
        </p:grpSpPr>
        <p:sp>
          <p:nvSpPr>
            <p:cNvPr id="81" name=""/>
            <p:cNvSpPr/>
            <p:nvPr/>
          </p:nvSpPr>
          <p:spPr>
            <a:xfrm>
              <a:off x="4657320" y="1219320"/>
              <a:ext cx="3501360" cy="10994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When no suffix is specified,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n most instructions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assume   .W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1219320"/>
              <a:ext cx="3581280" cy="114300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57200" y="4343400"/>
            <a:ext cx="45720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When storing values in memory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he most significant byte is stored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t the first address location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followed by the remaining byt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Example:  Store  $AC 35 EF B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t memory address $10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943880" y="3809880"/>
            <a:ext cx="3438000" cy="1890720"/>
            <a:chOff x="4943880" y="3809880"/>
            <a:chExt cx="3438000" cy="1890720"/>
          </a:xfrm>
        </p:grpSpPr>
        <p:grpSp>
          <p:nvGrpSpPr>
            <p:cNvPr id="85" name=""/>
            <p:cNvGrpSpPr/>
            <p:nvPr/>
          </p:nvGrpSpPr>
          <p:grpSpPr>
            <a:xfrm>
              <a:off x="5715000" y="4176720"/>
              <a:ext cx="2666880" cy="761400"/>
              <a:chOff x="5715000" y="4176720"/>
              <a:chExt cx="2666880" cy="76140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5715000" y="4176720"/>
                <a:ext cx="2666880" cy="380880"/>
                <a:chOff x="5715000" y="4176720"/>
                <a:chExt cx="2666880" cy="380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5715000" y="4176720"/>
                  <a:ext cx="2666880" cy="380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091280" y="417672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5715000" y="4557600"/>
                <a:ext cx="2666880" cy="380520"/>
                <a:chOff x="5715000" y="4557600"/>
                <a:chExt cx="2666880" cy="38052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5715000" y="4557600"/>
                  <a:ext cx="2666880" cy="380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7091280" y="4557600"/>
                  <a:ext cx="0" cy="380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" name=""/>
            <p:cNvGrpSpPr/>
            <p:nvPr/>
          </p:nvGrpSpPr>
          <p:grpSpPr>
            <a:xfrm>
              <a:off x="5715000" y="4938480"/>
              <a:ext cx="2666880" cy="762120"/>
              <a:chOff x="5715000" y="4938480"/>
              <a:chExt cx="2666880" cy="76212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5715000" y="4938480"/>
                <a:ext cx="2666880" cy="381240"/>
                <a:chOff x="5715000" y="4938480"/>
                <a:chExt cx="2666880" cy="38124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5715000" y="4938480"/>
                  <a:ext cx="2666880" cy="381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091280" y="4938480"/>
                  <a:ext cx="0" cy="381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5715000" y="5319720"/>
                <a:ext cx="2666880" cy="380880"/>
                <a:chOff x="5715000" y="5319720"/>
                <a:chExt cx="2666880" cy="3808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5715000" y="5319720"/>
                  <a:ext cx="2666880" cy="380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7091280" y="531972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9" name=""/>
            <p:cNvSpPr/>
            <p:nvPr/>
          </p:nvSpPr>
          <p:spPr>
            <a:xfrm>
              <a:off x="6229080" y="3809880"/>
              <a:ext cx="183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ord  (16 bit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3880" y="4557600"/>
              <a:ext cx="323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$1000      A      C          3      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55040" y="4952880"/>
              <a:ext cx="323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$1002      E      F          B      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6551280" y="5715000"/>
            <a:ext cx="16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mory 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5400720"/>
            <a:ext cx="1600200" cy="609480"/>
          </a:xfrm>
          <a:custGeom>
            <a:avLst/>
            <a:gdLst>
              <a:gd name="textAreaLeft" fmla="*/ 533520 w 1600200"/>
              <a:gd name="textAreaRight" fmla="*/ 1370520 w 160020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91520" y="-3492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Example of a Simple Motorola 68000 Assembly Language Progra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85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following assembly language program adds together the two 8-bit numbers stored in the memory locations called Value1 and Value2, and deposits the sum in Result.       Result  =  Value1 + Value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RG            $400                   Start of program are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.B     Value1,D0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.B     Value2,D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D.B         D0,D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.B     D1,Resul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P           #$2700              Stop executio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RG            $1000                Start of data are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alue1     DC.B            12                      Store 12 in memory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alue2     DC.B            2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ult      DS.B             1                       Reserve a byte for Resul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D            $400                  End of program and entry poin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154720" y="15228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246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 Sum Using A Loo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erform the sum  1 + 2 + 3+...+ 10  by using a loop, or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:= 0;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 COUNTER := 1  TO 10 DO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:= TOTAL  +  COUNTER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s can be solved by the following 68000 Assembler code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G          $400         Start of program area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R           D1            Set the total initially to 0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E.B    #1,D0       Initialize the counter to 1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xt    ADD.B       D0,D1       Add the counter to the tota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D.B      #1,D0        Increment the counter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MP.B      #11,D0      Check if loop is done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NE         Next          Go back for another round  if not don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OP        #$2700      Stop executi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15200" y="414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Basic Assembly Program Structur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ssembly language is made up of two types of statements: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Executable Instruction: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One of the processor's valid instructions which can be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ranslated into machine code form by the assembler.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ssembler Directive: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nform the assembler about the program and the  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environment and cannot be translated into machine code.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Link symbolic names to actual values. 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et up pre-defined constants. 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Allocate storage for data in memory. 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ontrol the assembly process.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1981080"/>
            <a:ext cx="6324480" cy="83844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3367080"/>
            <a:ext cx="7010280" cy="91440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231040" y="15228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Assembler Directives: EQU Direc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quate directive simply links a name to a value in order to make a program easier to read. It does not reserve space in memory.   For example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ACK_SP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QU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$08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AR_RET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QU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$0D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QU directive may include expressions as well as litrals provided all elements of the expression have already been defin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ength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QU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idth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QU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rea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QU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ength*Width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154720" y="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487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Assembler Directives:  DC Directiv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040" y="93780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s directive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efines a consta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and is qualified by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.B -  to indicate a byte, 8 bits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.W -  to indicate a word, 16 bits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.L -  to indicate a long word, 32 bits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 operand may consist of: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ne or more decimal numbers;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ne or more hexadecimal numbers denoted by a leading '$';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ne or more binary numbers denoted by a a leading '%';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n ASCII string enclosed in single quotes;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n expression to be evaluated.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 label in the left hand column equates the label with the first address (word)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 constant is loaded into memory at the current location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291520" y="414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Assembler Directives:  DS Directiv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762120"/>
            <a:ext cx="79246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efine storag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directive reserves a storage location in memory but does not store any information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 directive may be qualified by '.B', '.W' or '.L' to indicate bytes, words or long words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 operand specifies the number of such quantities to reserve in decimal or hex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 optional label equates to the address of the first word of storage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RG      $1000                  Starting addres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IRST         DS.B       4                          Reserve 4 byte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COND    DS.W      4                         Reserve 4 word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RD        DS.L       4                         Reserve 4 long word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ABLE       DS.W     $10                      Reserve 16 word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231040" y="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sembler Directives: ORG, END Dir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origin directive sets up the value of the location counter that tracks where the next item will be stored in memory;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ay be located anywhere in the program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RG      $00001000         Starting addres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IRST        DS.B      4                         Reserve 4 byte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RG      $00001100         Change the memory location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COND   DS.W     4                         Reserve 4 word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nd directive indicates that the end of the code has been reached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ptionally specifies the place at which to start execution; 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.g., END $0400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154720" y="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Basic Characteristics of 68000 Assembly Languag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80460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n assembly language program line or statement is comprised of the following 4 columns: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75"/>
              </a:spcBef>
              <a:buClr>
                <a:srgbClr val="000000"/>
              </a:buClr>
              <a:buSzPct val="14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Optional label which must begin in column 1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26"/>
              </a:spcBef>
              <a:buClr>
                <a:srgbClr val="000000"/>
              </a:buClr>
              <a:buSzPct val="14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n instruction;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These are the actual instructions themselves, such as MOVE, ADD, etc.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pcode fields :  The suffixes `.B', `.W', and `.L' denote a byte, word, and long-word operation, respectively. If not specified, the default  is word size (.W).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asic addressing modes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 register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dress register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#n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stant or immediate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ents of memory location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0"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75"/>
              </a:spcBef>
              <a:buClr>
                <a:srgbClr val="000000"/>
              </a:buClr>
              <a:buSzPct val="140000"/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ts operand or operands.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75"/>
              </a:spcBef>
              <a:buClr>
                <a:srgbClr val="000000"/>
              </a:buClr>
              <a:buSzPct val="140000"/>
              <a:buFont typeface="Times New Roman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Optional comment field. 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3962520"/>
            <a:ext cx="4572000" cy="1523880"/>
          </a:xfrm>
          <a:prstGeom prst="rect">
            <a:avLst/>
          </a:prstGeom>
          <a:noFill/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231040" y="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Basic Characteristics of 68000 Assembly Languag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780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line beginning with an asterisk *  in the first column is a comment and is totally ignored by the assembler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ber systems are represented as follows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 number without any prefix is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 number with a leading  '$'  is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hex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 number with a leading  '%'  is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binary.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closing a string in quotes represents a sequence of ASCII characters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least one space is required to separate the label and comment field from the instruction; but additional spaces are added for readability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ollowing data sizes apply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yte - 8 bits 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Word - 16 bits   (default operand size for most instructions).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Long word - 32 bits 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291520" y="-3492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Some Basic Assembly Instructio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1880" y="865080"/>
            <a:ext cx="1683360" cy="55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D0,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Q,D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#Q,D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Q,D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D0,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R 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MP Q,D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MP #Q,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Q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NE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55320" y="865080"/>
            <a:ext cx="6648480" cy="51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y the contents of register D0 to memory location Q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y the contents of memory location Q to register D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y the number Q to register D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the contents of memory location Q to regis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0 and put the result in D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the contents of memory location Q to regis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0 and put the results in memory location Q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the content of memory location Q to z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tract the contents of memory location Q from the con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register D0 in order to set up the CCR.  Discard th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tract the number Q from the contents of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0 in order to set up the CCR. Discard the res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ch to N if the result of the last operation yielded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ch to N if  operands of the last comparison were not equ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ways branch to location 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2080" y="53496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6640" y="534960"/>
            <a:ext cx="25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ration Perfor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91520" y="414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07T23:03:44Z</dcterms:created>
  <dc:creator>Shaaban</dc:creator>
  <dc:description/>
  <dc:language>en-US</dc:language>
  <cp:lastModifiedBy>Manfred  Deutscher</cp:lastModifiedBy>
  <cp:lastPrinted>1999-11-16T21:46:11Z</cp:lastPrinted>
  <dcterms:modified xsi:type="dcterms:W3CDTF">2001-11-11T18:02:59Z</dcterms:modified>
  <cp:revision>1243</cp:revision>
  <dc:subject>Perl</dc:subject>
  <dc:title>CECS470</dc:title>
</cp:coreProperties>
</file>