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BA3-5C30-4378-94C7-BD85B97C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2D3-BA69-496F-B01E-9CD364F4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98D-4060-4829-A2BB-9960CF5B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65E-59B9-43B7-BE06-1BFB2746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C20-D46E-4152-BD89-CDD253F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965-F2E4-44EA-9FBC-762FF90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90-7C99-4845-99B0-9292052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FB4-6200-42CD-9E29-F820187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F0E-5096-41D3-9C5F-CB03828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BAD-7CED-4800-B4A3-8D52D551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FC4-83FA-4ABE-8E07-BA3AC29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06C-8129-4A91-886F-974EA6C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3A6-A098-4810-8D16-DCAD2E459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68000 CPU an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      1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.Neumann to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PU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gistersystem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I    13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f. Assembler.Introductio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1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2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ng Mode &amp;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thmetic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routines &amp; Stack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II) ggf. Stack related Instructions &amp;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. Deutscher-Ti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Selceted Slides from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us Register: Condition Code Regi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1008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28800" y="3057480"/>
            <a:ext cx="51814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20640" y="60948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6508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tatus Register: The System Pa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4760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15200" y="8031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cription of 68000 Regi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800" y="49500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Counter (PC) - points to the next instruction to be executed (24 bits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Purpose Registers - D0 through D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general purpose" because registers can each perform the same range of function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32 bits wide, but can be divided into 2 words or 4 byte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its in the data register have an arbitrary meaning; e.g., two's complement number, unsigned integer,  or ASCII  character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ord operations applied to these registers can only use the low order 16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yte operations applied to these registers can only use the low order 8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ress Registers - A0 through A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address registers" because they are always used to store the address of a memory location.   32 bits wide, but cannot be subdivided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0 through A6 can be used as you see fit; however, A7 is the stack pointer which is needed to keep track of subroutine return addresses. Therefore, you should not use A7 explicitly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R Register   Contains the following flags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     eXtend flag (similar to the carry flag)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-   Negative flag - true if first bit 1   (sign bit  or MSB of result is =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     Zero flag - true if all bits 0   (result is equal to zero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     oVerflow flag    (2’s complement overflow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 - Carry flag   (carry out bit from an arithmetic operation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rtain operations effect all bits; e.g., arithmetic.   Certain operations effect only some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ts ( e.g., Logical operations do not effect overflow or carry).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ertain operations do not effect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y  of the bits (e.g., exchange registers)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9152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71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Instruction Set Architecture (IS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amp; Assembl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struction Set Architecture (ISA) of the Microprocessor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programmer's view of the processo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chine Code: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PU language comprised of computer instructions that controls the primitive operations on binary data within the computer, including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ta movement and copying instruc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rithmetic operations (e.g., addition and subtraction);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gic instructions:  AND, OR, XOR, shift operations,  etc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ntrol instructions:  Jumps, Branchin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uman-readable representation of the binary code executed by the comput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71760"/>
            <a:ext cx="6781680" cy="5331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31040" y="609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asic computer operation and organiz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94284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mputer manipulates binary coded data and responds to events occurring in the external world (users, other devices, network).   This is called a stored-program or von-Neumann machine architectu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is used to store both programs and data instructions (this is the core of the von-Neumann architecture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instructions are binary coded data which tell the computer to do something,  i.e. add two numbers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is simply information to be used by the program, i.e. two numbers to be  added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entral processing unit (CPU) with the following task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ing instruction(s) and/or data from mem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oding the instruction(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ing the indicated sequence of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0040" y="4786200"/>
            <a:ext cx="6096240" cy="129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332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81080"/>
            <a:ext cx="8077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on-Neumann Comput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49536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tioning of the computing engine into componen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 Processing Unit (CPU): Control Unit (instruction decode , sequencing of operations), Datapath (registers, arithmetic and logic unit, buses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ory:  Instruction and operand 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/Output (I/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ored program concept: Instructions from an instruction set are fetched from a common memory and executed one at a 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31920" y="2827440"/>
            <a:ext cx="6832440" cy="3327120"/>
            <a:chOff x="1231920" y="2827440"/>
            <a:chExt cx="6832440" cy="3327120"/>
          </a:xfrm>
        </p:grpSpPr>
        <p:sp>
          <p:nvSpPr>
            <p:cNvPr id="53" name=""/>
            <p:cNvSpPr/>
            <p:nvPr/>
          </p:nvSpPr>
          <p:spPr>
            <a:xfrm>
              <a:off x="3898800" y="3132000"/>
              <a:ext cx="1270080" cy="1041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8800" y="4427640"/>
              <a:ext cx="1270080" cy="1041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12800" y="3132000"/>
              <a:ext cx="1270080" cy="2260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58160" y="3911760"/>
              <a:ext cx="126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(instruction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at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0120" y="3378240"/>
              <a:ext cx="103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2720" y="4521240"/>
              <a:ext cx="12078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LU, bu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0200" y="2979720"/>
              <a:ext cx="1727280" cy="294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8240" y="5511960"/>
              <a:ext cx="77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1920" y="2827440"/>
              <a:ext cx="6832440" cy="332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74760" y="5587920"/>
              <a:ext cx="2146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r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4262400"/>
              <a:ext cx="762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165720" y="2979720"/>
              <a:ext cx="1727280" cy="3005640"/>
              <a:chOff x="6165720" y="2979720"/>
              <a:chExt cx="1727280" cy="3005640"/>
            </a:xfrm>
          </p:grpSpPr>
          <p:sp>
            <p:nvSpPr>
              <p:cNvPr id="65" name=""/>
              <p:cNvSpPr/>
              <p:nvPr/>
            </p:nvSpPr>
            <p:spPr>
              <a:xfrm>
                <a:off x="6394320" y="45036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394320" y="31320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92680" y="3454560"/>
                <a:ext cx="794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5280" y="4826160"/>
                <a:ext cx="979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65720" y="2979720"/>
                <a:ext cx="1727280" cy="2946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86680" y="5587920"/>
                <a:ext cx="1436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/O Dev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376960" y="4338720"/>
              <a:ext cx="761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443800" y="414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ntral Processing Unit (CP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odes the program instruc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program counter which contains the location of the next instruction to be execu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status register which monitors the execution of instructions and keeps track of overflows, carries, borrows, et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ithmetic Logic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ries out the logic and arithmetic operations as required for instructions decoded by the control un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st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counter, status registers, stack pointer for subroutine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number of general-purpose registers accessed by instructions to store addresses, instruction operands, and ALU resul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76520" y="790560"/>
            <a:ext cx="5715000" cy="914400"/>
            <a:chOff x="1676520" y="790560"/>
            <a:chExt cx="5715000" cy="914400"/>
          </a:xfrm>
        </p:grpSpPr>
        <p:grpSp>
          <p:nvGrpSpPr>
            <p:cNvPr id="76" name=""/>
            <p:cNvGrpSpPr/>
            <p:nvPr/>
          </p:nvGrpSpPr>
          <p:grpSpPr>
            <a:xfrm>
              <a:off x="1676520" y="790560"/>
              <a:ext cx="5715000" cy="914400"/>
              <a:chOff x="1676520" y="790560"/>
              <a:chExt cx="5715000" cy="914400"/>
            </a:xfrm>
          </p:grpSpPr>
          <p:sp>
            <p:nvSpPr>
              <p:cNvPr id="77" name=""/>
              <p:cNvSpPr/>
              <p:nvPr/>
            </p:nvSpPr>
            <p:spPr>
              <a:xfrm>
                <a:off x="1676520" y="790560"/>
                <a:ext cx="57150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942840"/>
                <a:ext cx="103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29360" y="866520"/>
                <a:ext cx="2133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 Log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 (AL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27760" y="10332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20076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904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07000" y="1522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ertical Grid Organization of Mem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0848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5964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uter Data Storage Uni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890280"/>
            <a:ext cx="8305560" cy="53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Smallest quantity of information that can be manipulated inside a computer; its value is either 0 or 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Defined to be a group of 8 bits; and typically the minimum size required to store a characte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 Basic unit of information stored in memory and processed by a computer.  Typical computer word lengths are 16, 32 and 64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68000, a word is 16-bits , and a long word is 32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s and long words in the 68000 must start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n memory add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e.g.   $1000  is allowed, but $1001 produces a memory alignment erro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380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8000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629400" cy="498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67480" y="1936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219240"/>
            <a:ext cx="57150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4880" y="4179960"/>
            <a:ext cx="6015240" cy="195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840" y="538200"/>
            <a:ext cx="316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8000 Pino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5440" y="500040"/>
            <a:ext cx="3276360" cy="8380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911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5105520" cy="525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4724640" cy="241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480060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487656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3520" y="5819760"/>
            <a:ext cx="4829040" cy="49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19810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960" y="31240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8360" y="51814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ck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7913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2209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20120" y="42667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09720" y="60958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4100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352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360" y="45720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52280"/>
            <a:ext cx="304812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25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deutsch</cp:lastModifiedBy>
  <cp:lastPrinted>1999-11-16T21:46:11Z</cp:lastPrinted>
  <dcterms:modified xsi:type="dcterms:W3CDTF">2008-04-08T15:04:47Z</dcterms:modified>
  <cp:revision>1251</cp:revision>
  <dc:subject>Perl</dc:subject>
  <dc:title>CECS470</dc:title>
</cp:coreProperties>
</file>