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0080625" cy="7559675"/>
  <p:notesSz cx="6869113" cy="9993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FD7F-CD7A-49C8-8F21-FBA2397BE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59280" y="357120"/>
            <a:ext cx="45705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5192-F51F-4EC4-8BA5-D721976E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859280" y="357120"/>
            <a:ext cx="45705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8C59-7FA0-44B1-81D1-C631D80E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859280" y="357120"/>
            <a:ext cx="45705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6FFF-6C8C-4C7F-AB67-716D3E4F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9280" y="357120"/>
            <a:ext cx="45705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5495-5222-499B-AE65-4679696E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9280" y="357120"/>
            <a:ext cx="45705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594C-8A11-41FB-9338-0933C54F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59280" y="357120"/>
            <a:ext cx="45705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C7BC-5D7F-4A1C-AAA5-8A8AECEF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9280" y="357120"/>
            <a:ext cx="45705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0A19-B656-4742-AD1F-31FEFB49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859280" y="357120"/>
            <a:ext cx="45705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5A79-CD08-4D22-A0D4-1418895A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59280" y="357120"/>
            <a:ext cx="45705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56BD-54DD-4224-909E-6A99B29D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59280" y="357120"/>
            <a:ext cx="45705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05CD-F4A5-4D68-85C2-F5C4B8FD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59280" y="357120"/>
            <a:ext cx="45705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8D81-92F7-4769-B888-B6D64051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9280" y="357120"/>
            <a:ext cx="45705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9.01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271E574-8D73-4663-BCFF-6C27C501CDA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179280" y="360360"/>
            <a:ext cx="4648320" cy="809640"/>
          </a:xfrm>
          <a:prstGeom prst="rect">
            <a:avLst/>
          </a:prstGeom>
          <a:ln w="0">
            <a:noFill/>
          </a:ln>
        </p:spPr>
      </p:pic>
      <p:sp>
        <p:nvSpPr>
          <p:cNvPr id="6" name="Line 7"/>
          <p:cNvSpPr/>
          <p:nvPr/>
        </p:nvSpPr>
        <p:spPr>
          <a:xfrm>
            <a:off x="360360" y="1440000"/>
            <a:ext cx="9180360" cy="1440"/>
          </a:xfrm>
          <a:prstGeom prst="line">
            <a:avLst/>
          </a:prstGeom>
          <a:ln w="9360">
            <a:solidFill>
              <a:srgbClr val="004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1993680"/>
            <a:ext cx="85694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Vortrag 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Grundlagen der Technischen Informatik 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Thema: C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31640" y="4787640"/>
            <a:ext cx="900144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a6a6a6"/>
                </a:solidFill>
                <a:latin typeface="Arial"/>
              </a:rPr>
              <a:t>René Matth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a6a6a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a6a6a6"/>
                </a:solidFill>
                <a:latin typeface="Arial"/>
              </a:rPr>
              <a:t>Maria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a6a6a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a6a6a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a6a6a6"/>
                </a:solidFill>
                <a:latin typeface="Arial"/>
              </a:rPr>
              <a:t>Steffen Schul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a6a6a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a6a6a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a6a6a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a6a6a6"/>
                </a:solidFill>
                <a:latin typeface="Arial"/>
              </a:rPr>
              <a:t>Christian Lausber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a6a6a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a6a6a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a6a6a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a6a6a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a6a6a6"/>
                </a:solidFill>
                <a:latin typeface="Arial"/>
              </a:rPr>
              <a:t>Daniel Wesch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824360" y="323640"/>
            <a:ext cx="46087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arität einer Bitfol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000" y="1707840"/>
            <a:ext cx="906948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lvl="1" marL="357120" indent="-177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die Parität einer Bitfolge bezeichnet die Anzahl der mit  1 belegten Bits im Imformationswort und heißt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gerade (0), wenn die Anzahl dieser Bits gerade ist,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ndernfalls ungerade (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78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78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ispie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7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lain" startAt="10110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ritä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78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1001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Parität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78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0011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Paritä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78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01000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Parität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78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7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Paritäten lassen sich sehr einfach mit XOR berech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liennummernplatzhalter 3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4ED74-1251-40BB-8834-AE5A44C3B27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39960" y="279000"/>
            <a:ext cx="48927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dimensionale Paritätsb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02920" y="1767960"/>
            <a:ext cx="9069480" cy="5511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zwei beliebige Codeworte haben immer eine Hamming Distanz &gt;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Gerade Parität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Ungerade Paritä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0000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92d050"/>
                </a:solidFill>
                <a:latin typeface="Arial"/>
              </a:rPr>
              <a:t>0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0000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92d05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0001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92d050"/>
                </a:solidFill>
                <a:latin typeface="Arial"/>
              </a:rPr>
              <a:t>1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0001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92d05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0010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92d050"/>
                </a:solidFill>
                <a:latin typeface="Arial"/>
              </a:rPr>
              <a:t>1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0010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92d05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0011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92d050"/>
                </a:solidFill>
                <a:latin typeface="Arial"/>
              </a:rPr>
              <a:t>0</a:t>
            </a:r>
            <a:r>
              <a:rPr b="1" lang="de-DE" sz="2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0011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92d05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0100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92d050"/>
                </a:solidFill>
                <a:latin typeface="Arial"/>
              </a:rPr>
              <a:t>1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0100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92d05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0101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92d050"/>
                </a:solidFill>
                <a:latin typeface="Arial"/>
              </a:rPr>
              <a:t>0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0101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92d05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0110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92d050"/>
                </a:solidFill>
                <a:latin typeface="Arial"/>
              </a:rPr>
              <a:t>0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0110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92d05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0111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92d050"/>
                </a:solidFill>
                <a:latin typeface="Arial"/>
              </a:rPr>
              <a:t>1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0111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92d05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oliennummernplatzhalter 3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59237-94CE-4ABA-9041-684071F95E9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feld 4"/>
          <p:cNvSpPr/>
          <p:nvPr/>
        </p:nvSpPr>
        <p:spPr>
          <a:xfrm>
            <a:off x="5794200" y="2340000"/>
            <a:ext cx="4286520" cy="36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Overhead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Konstant (1 Bi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Fehlererkennu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Ein-Bitfehler werden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erkan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Fehlerkorrektur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icht mögli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859280" y="357120"/>
            <a:ext cx="49672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weidimensionale Paritäts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oliennummernplatzhalter 3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17B0C-D880-4C6F-94D2-8BD072D1E44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54160" y="4208400"/>
            <a:ext cx="7318080" cy="2959200"/>
          </a:xfrm>
          <a:prstGeom prst="rect">
            <a:avLst/>
          </a:prstGeom>
          <a:ln w="0">
            <a:noFill/>
          </a:ln>
        </p:spPr>
      </p:pic>
      <p:sp>
        <p:nvSpPr>
          <p:cNvPr id="82" name="Textfeld 5"/>
          <p:cNvSpPr/>
          <p:nvPr/>
        </p:nvSpPr>
        <p:spPr>
          <a:xfrm>
            <a:off x="6897600" y="1708200"/>
            <a:ext cx="285768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verhea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n+1 zusätzlich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ts für n²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- fehlererkenn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-fehlerkorrigier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feld 5"/>
          <p:cNvSpPr/>
          <p:nvPr/>
        </p:nvSpPr>
        <p:spPr>
          <a:xfrm>
            <a:off x="396720" y="1494000"/>
            <a:ext cx="61437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 u="sng">
                <a:solidFill>
                  <a:srgbClr val="000000"/>
                </a:solidFill>
                <a:uFillTx/>
                <a:latin typeface="Arial"/>
              </a:rPr>
              <a:t>Grundidee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Ein Paritätsbit für die Zeilen und ein Paritätsbit für die Spalten (also für die einzelnen Bits in den Codewörtern) verwen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35280" y="466560"/>
            <a:ext cx="493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SimSun"/>
              </a:rPr>
              <a:t>Hamming-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31640" y="1476000"/>
            <a:ext cx="907272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marL="357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Hamming Gewicht w, Anzahl der von „0“  verschiedenen Stellen eines Codewo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sp.: w(1001)=2, w(0010)=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Hamming Distanz d, Anzahl unterschiedlicher Stellen zweier Codewör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sp.: d(1001, 0010)=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liennummernplatzhalter 3"/>
          <p:cNvSpPr/>
          <p:nvPr/>
        </p:nvSpPr>
        <p:spPr>
          <a:xfrm>
            <a:off x="7201080" y="704052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AE452-02EA-4B1D-9894-C83372E9C7A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35280" y="466200"/>
            <a:ext cx="4932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SimSun"/>
              </a:rPr>
              <a:t>Aufbau des Hamming-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60000" y="1476360"/>
            <a:ext cx="9070920" cy="50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57120" indent="-357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Ein Paritätsbit je Binärstelle der Codewor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odeworte haben Länge N=2</a:t>
            </a:r>
            <a:r>
              <a:rPr b="0" lang="de-DE" sz="2600" spc="-1" strike="noStrike" baseline="33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utzdaten n=2</a:t>
            </a:r>
            <a:r>
              <a:rPr b="0" lang="de-DE" sz="2600" spc="-1" strike="noStrike" baseline="33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-1-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Die k-Paritätsbits werden an den Stellen 2</a:t>
            </a:r>
            <a:r>
              <a:rPr b="0" lang="de-DE" sz="2600" spc="-1" strike="noStrike" baseline="33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,2</a:t>
            </a:r>
            <a:r>
              <a:rPr b="0" lang="de-DE" sz="2600" spc="-1" strike="noStrike" baseline="33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,2</a:t>
            </a:r>
            <a:r>
              <a:rPr b="0" lang="de-DE" sz="26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,...,2</a:t>
            </a:r>
            <a:r>
              <a:rPr b="0" lang="de-DE" sz="2600" spc="-1" strike="noStrike" baseline="33000">
                <a:solidFill>
                  <a:srgbClr val="000000"/>
                </a:solidFill>
                <a:latin typeface="Arial"/>
              </a:rPr>
              <a:t>k-1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eingefüg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 der Regel als Tupel (N,n) angegeben aus Codewortlänge N und Größe der Nutzdaten 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sp.: häufig H(63,57), H(3,1), H(31,2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oliennummernplatzhalter 3"/>
          <p:cNvSpPr/>
          <p:nvPr/>
        </p:nvSpPr>
        <p:spPr>
          <a:xfrm>
            <a:off x="7201080" y="704052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4187F-21F2-4BA8-A349-56504E7BBC7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35640" y="466200"/>
            <a:ext cx="48974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SimSun"/>
              </a:rPr>
              <a:t>Hamming-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60000" y="14763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eispiel H(31,26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17680" y="2990880"/>
          <a:ext cx="9310680" cy="223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2990880"/>
                    <a:ext cx="931068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Foliennummernplatzhalter 3"/>
          <p:cNvSpPr/>
          <p:nvPr/>
        </p:nvSpPr>
        <p:spPr>
          <a:xfrm>
            <a:off x="7201080" y="704052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8AF7C-A30E-4C6E-A33B-4913CFA2D36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824360" y="323640"/>
            <a:ext cx="46087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yklische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liennummernplatzhalter 3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AFB96-C715-4B75-937F-900E8A97576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feld 5"/>
          <p:cNvSpPr/>
          <p:nvPr/>
        </p:nvSpPr>
        <p:spPr>
          <a:xfrm>
            <a:off x="431640" y="1692360"/>
            <a:ext cx="8747280" cy="40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95000"/>
              </a:lnSpc>
              <a:spcAft>
                <a:spcPts val="97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Vorteil, dass durch eine zyklische Verschiebung der Bits des Codewortes ein neues, gültiges Codewort entsteh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Aft>
                <a:spcPts val="97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Erkennung und Korrektur von beliebig vielen Fehlern mögli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Aft>
                <a:spcPts val="97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esteht aus Informations- und Prüfb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Aft>
                <a:spcPts val="97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Verwendung von Polynomen mit Koeffizienten aus endlichen Körpern F</a:t>
            </a:r>
            <a:r>
              <a:rPr b="0" lang="de-DE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Aft>
                <a:spcPts val="97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Hardware-Implementierung in Schieberegiste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58920" y="357120"/>
            <a:ext cx="46450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yclic Redundancy Check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CR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liennummernplatzhalter 3"/>
          <p:cNvSpPr/>
          <p:nvPr/>
        </p:nvSpPr>
        <p:spPr>
          <a:xfrm>
            <a:off x="7201080" y="704052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91B7B-C37B-4EE4-88EA-AD9FF8C7FF5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feld 5"/>
          <p:cNvSpPr/>
          <p:nvPr/>
        </p:nvSpPr>
        <p:spPr>
          <a:xfrm>
            <a:off x="431640" y="1692360"/>
            <a:ext cx="8747280" cy="54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95000"/>
              </a:lnSpc>
              <a:spcAft>
                <a:spcPts val="97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dee: Nachrichten als Polynome auffassen und ein gemeinsames Prüfpolynom (Generatorpolynom) vereinbaren und die Reste der Polynomdivision als Prüfsumme berech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Aft>
                <a:spcPts val="97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Aft>
                <a:spcPts val="97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eispiel: Nachricht: x</a:t>
            </a:r>
            <a:r>
              <a:rPr b="0" lang="de-DE" sz="2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DE" sz="2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DE" sz="2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DE" sz="2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Aft>
                <a:spcPts val="97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Generatorpolynom: x</a:t>
            </a:r>
            <a:r>
              <a:rPr b="0" lang="de-DE" sz="2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DE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Aft>
                <a:spcPts val="97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Aft>
                <a:spcPts val="97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Zur Überprüfung wird das Codewort durch das Generatorpolynom geteilt, falls Rest 0 ist liegt kein Fehler v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Aft>
                <a:spcPts val="97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03280" y="1763640"/>
            <a:ext cx="92901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in-Bit-Fehler (zwei oder mehr Terme vorhanden sin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Zwei-Bit-Fehler (keinen Faktor (x</a:t>
            </a:r>
            <a:r>
              <a:rPr b="0" lang="de-DE" sz="22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+ 1) enthäl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lle ungeraden Fehler (einen Faktor (x+1) enthäl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ündelfehler (nicht mehr Bits als die Länge des CRC-Polynoms fehlerhaft sin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eispiel: Generatorpolynom: g=x16+x15+x2+1=(x15+x+1)(x+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- Alle ungerade Fehleranzah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- Alle doppelten Fehler, falls die beiden Bitfehler weniger als 2</a:t>
            </a:r>
            <a:r>
              <a:rPr b="0" lang="de-DE" sz="2200" spc="-1" strike="noStrike" baseline="30000">
                <a:solidFill>
                  <a:srgbClr val="000000"/>
                </a:solidFill>
                <a:latin typeface="Arial"/>
              </a:rPr>
              <a:t>1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200" spc="-1" strike="noStrike" baseline="30000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(32768)</a:t>
            </a:r>
            <a:r>
              <a:rPr b="0" lang="de-DE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its auseinander lie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- Alle Bündelfehler der Länge kleiner 1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- Mit hoher Wahrscheinlichkeit auch längere Bündelfeh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tel 1"/>
          <p:cNvSpPr/>
          <p:nvPr/>
        </p:nvSpPr>
        <p:spPr>
          <a:xfrm>
            <a:off x="4824360" y="324000"/>
            <a:ext cx="46450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RC-Fehlererkenn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liennummernplatzhalter 3"/>
          <p:cNvSpPr/>
          <p:nvPr/>
        </p:nvSpPr>
        <p:spPr>
          <a:xfrm>
            <a:off x="7201080" y="704052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87FED-AE24-427C-948F-8BF96D850E1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96680" y="4857480"/>
            <a:ext cx="8567640" cy="150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EN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96680" y="3203280"/>
            <a:ext cx="8567640" cy="165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b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liennummernplatzhalter 1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0CC73-1456-4E00-B227-353EFA88E81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792000" y="3203280"/>
            <a:ext cx="8568000" cy="165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b">
            <a:norm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oliennummernplatzhalter 3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0ABC8-D6CD-40CC-92F1-78388943217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796680" y="1907640"/>
            <a:ext cx="85676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Was sind Codes?</a:t>
            </a:r>
            <a:br>
              <a:rPr sz="4000"/>
            </a:b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Wozu dienen Codes?</a:t>
            </a:r>
            <a:br>
              <a:rPr sz="4000"/>
            </a:b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rten von Codes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(Grey-Code, Paritätscodes,Hamming-Codes, Zyklische Cod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el 1"/>
          <p:cNvSpPr/>
          <p:nvPr/>
        </p:nvSpPr>
        <p:spPr>
          <a:xfrm>
            <a:off x="4824360" y="324000"/>
            <a:ext cx="46087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liennummernplatzhalter 3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7D9ED-D69B-42FB-815A-8F156DEDE87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96680" y="1907640"/>
            <a:ext cx="85676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r>
              <a:rPr b="0" lang="de-DE" sz="4200" spc="-1" strike="noStrike">
                <a:solidFill>
                  <a:srgbClr val="000000"/>
                </a:solidFill>
                <a:latin typeface="Arial"/>
              </a:rPr>
              <a:t>Ein Code ist eine Zuordnungsregel für die Darstellung der Repräsentation von Informationen, wobei Wörter eines Alphabetes, Wörtern eines anderen Alphabetes zugeordnet werden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el 1"/>
          <p:cNvSpPr/>
          <p:nvPr/>
        </p:nvSpPr>
        <p:spPr>
          <a:xfrm>
            <a:off x="4824360" y="324000"/>
            <a:ext cx="46087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s sind Codes?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859280" y="357120"/>
            <a:ext cx="45705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ozu dienen Cod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m Allgemeinen, um Informationen in einer anderen Form dazustell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 sie geheim zu halt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 sie in eine für die Übertragung  günstigere Form zu bringen (z. B. Morse-Code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 sie in eine für Maschinen verständlich  zu machen (Binärc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oliennummernplatzhalter 3"/>
          <p:cNvSpPr/>
          <p:nvPr/>
        </p:nvSpPr>
        <p:spPr>
          <a:xfrm>
            <a:off x="7201080" y="704052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92032-3670-43BC-99E5-F2D28C95D09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59280" y="357120"/>
            <a:ext cx="45705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Arten von Cod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liennummernplatzhalter 3"/>
          <p:cNvSpPr/>
          <p:nvPr/>
        </p:nvSpPr>
        <p:spPr>
          <a:xfrm>
            <a:off x="7201080" y="704052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DBA02-2A56-4970-A73C-CE71EFCECB5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59280" y="357120"/>
            <a:ext cx="45705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CD-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Form der Umwandlung von Dezimal- in Binärzahl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Umwandlung  jeder einzelnen Ziffer in eine 4-Bit Binärzah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eispiel: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7436  </a:t>
            </a:r>
            <a:r>
              <a:rPr b="0" lang="de-DE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 0111 0100  0011  01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achteile:  - weniger kompak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Vorteile:     - sehr einfache Umwandl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- selbst Umwandlung von Brüchen schnell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                  mögli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liennummernplatzhalter 3"/>
          <p:cNvSpPr/>
          <p:nvPr/>
        </p:nvSpPr>
        <p:spPr>
          <a:xfrm>
            <a:off x="7201080" y="704052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0BE17-C2D6-4CCA-9D47-BB2524B43E2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59280" y="357120"/>
            <a:ext cx="45705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ray-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ele Schaltvorgänge kosten viel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ösung: Codewörter sollten sich immer nur um eins veränd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ay-Code Beispiel (Modulo-8-Zähler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4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ah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     → 1     →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   → 3     → 4     →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5     → 6     → 7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4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när: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00 → 001 → 010 → 011 → 100 →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101 →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10 → 1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4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diert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00 → 001 → 011 → 010 → 110 →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111 →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01 →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4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afische Darstel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7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7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it 1 (LSB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7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7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it 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7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7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it 3 (MSB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736720" y="5003640"/>
          <a:ext cx="4535640" cy="1694160"/>
        </p:xfrm>
        <a:graphic>
          <a:graphicData uri="http://schemas.openxmlformats.org/drawingml/2006/table">
            <a:tbl>
              <a:tblPr/>
              <a:tblGrid>
                <a:gridCol w="556920"/>
                <a:gridCol w="575640"/>
                <a:gridCol w="556920"/>
                <a:gridCol w="568800"/>
                <a:gridCol w="579960"/>
                <a:gridCol w="557280"/>
                <a:gridCol w="574200"/>
                <a:gridCol w="565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2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135108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135108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135108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135108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135108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135108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135108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135108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Foliennummernplatzhalter 3"/>
          <p:cNvSpPr/>
          <p:nvPr/>
        </p:nvSpPr>
        <p:spPr>
          <a:xfrm>
            <a:off x="7201080" y="704052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AB657-BFB6-46F5-97B4-DE951A6A93F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59280" y="357120"/>
            <a:ext cx="45705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rechnung des Gray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chritt 1: Ermittlung der Binärzah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chritt 2: Verschiebung um 1 Bit nach rech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chritt 3: Schritt 1 und Schritt 2 durch XOR verknüpf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: Umsetzung der SHIFT-Operation in 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303640" y="3492360"/>
            <a:ext cx="6337080" cy="2832120"/>
          </a:xfrm>
          <a:prstGeom prst="rect">
            <a:avLst/>
          </a:prstGeom>
          <a:ln w="0">
            <a:noFill/>
          </a:ln>
        </p:spPr>
      </p:pic>
      <p:sp>
        <p:nvSpPr>
          <p:cNvPr id="68" name="Foliennummernplatzhalter 3"/>
          <p:cNvSpPr/>
          <p:nvPr/>
        </p:nvSpPr>
        <p:spPr>
          <a:xfrm>
            <a:off x="7201080" y="704052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BBD7E-276E-42E7-856F-5FAA45230EB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0" y="357120"/>
            <a:ext cx="47498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rechnung des symmetrisch gekappten Gray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chritt 1: Wahl der nächstgrößeren Zahl in 2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chritt 2: Die Anzahl der Teilungen subtrahier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chritt 3: Die Differenz durch 2 dividier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Die Differenz aus Schritt 3 gibt die Startposition des gewünschten Codes innerhalb des in Schritt 1 ermittelten Codes a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eispiel: Anzahl Codeteilungen beträgt 2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ist 32 → 32 – 24 = 8 → 8 / 2 = </a:t>
            </a:r>
            <a:r>
              <a:rPr b="0" lang="de-DE" sz="26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Wir stellen also einen Graycode für 32 Zahlen auf und lesen unseren Code beginnend bei der 4 ab. Dieser endet, sobald er 24 Teilungen erreicht hat. (bei der 2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oliennummernplatzhalter 3"/>
          <p:cNvSpPr/>
          <p:nvPr/>
        </p:nvSpPr>
        <p:spPr>
          <a:xfrm>
            <a:off x="7201080" y="704052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CEA2D-D0B0-4A3A-A860-1642B63871C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8:54:27Z</dcterms:created>
  <dc:creator>Martin</dc:creator>
  <dc:description/>
  <dc:language>en-US</dc:language>
  <cp:lastModifiedBy>Notrade</cp:lastModifiedBy>
  <dcterms:modified xsi:type="dcterms:W3CDTF">2011-01-30T23:28:47Z</dcterms:modified>
  <cp:revision>61</cp:revision>
  <dc:subject/>
  <dc:title>Zahlensysteme</dc:title>
</cp:coreProperties>
</file>