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0E2-8653-429F-95F4-9DF83691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4B9-279E-4574-A0A3-E3863D43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F75-BFD8-4ECB-B6CE-E7B8268F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87D-DC0E-4338-A2EA-B023969C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3A4-A1BF-4B68-AE87-1F552248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E63-3B1F-40E9-B53B-CF199D83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50E-9BCA-4604-85C6-3C7FE50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8A8-955B-4CDD-B03D-33117398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59280" y="357120"/>
            <a:ext cx="45705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70A-5AD1-4091-A2E5-21EDFBC2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267-FC71-4657-8DC5-46C791D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72A-AEAD-4C09-B94E-AA9280C5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00F-E3FA-42FA-86BE-8383781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9280" y="357120"/>
            <a:ext cx="4570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9.0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143671-1548-4142-9191-CEEA30859D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79280" y="360360"/>
            <a:ext cx="4648320" cy="80964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360360" y="1440000"/>
            <a:ext cx="9180360" cy="1440"/>
          </a:xfrm>
          <a:prstGeom prst="line">
            <a:avLst/>
          </a:prstGeom>
          <a:ln w="9360">
            <a:solidFill>
              <a:srgbClr val="00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3280"/>
            <a:ext cx="906948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63600" indent="-3636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stellen Sie einen Gray-Code für einen Winkelsensor mit der absoluten Auflösung von 12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2) Testen Sie die Blöcke auf evtl. gekippte Bit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101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110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110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10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01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11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101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011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01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100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10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00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111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00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010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011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100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1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el 1"/>
          <p:cNvSpPr/>
          <p:nvPr/>
        </p:nvSpPr>
        <p:spPr>
          <a:xfrm>
            <a:off x="6969240" y="422280"/>
            <a:ext cx="3752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3) Es wird der folgende Hamming Code H(31,26) übertragen,   finden Sie den Fehle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101011111000111110001110011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4) Wurde folgendes Codewort 10010111001110110110 mit dem Generatorpolynom 1001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ichtig übertrag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el 1"/>
          <p:cNvSpPr/>
          <p:nvPr/>
        </p:nvSpPr>
        <p:spPr>
          <a:xfrm>
            <a:off x="6969240" y="422280"/>
            <a:ext cx="3752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2920" y="147600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63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. Ermitteln der Anzahl der Sektoren: 360 / 12 =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. Nächsthöhere Zahl 2n ist 25 ist 32 -&gt; Aufstellen Gray-Code für 32 Sekto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32 (Gray-Code) – 30 (Gray-Excess Code 30)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3. 2 / 2 = 1 (Startwert des Gray-Excess 30 Code bei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ild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el 1"/>
          <p:cNvSpPr/>
          <p:nvPr/>
        </p:nvSpPr>
        <p:spPr>
          <a:xfrm>
            <a:off x="7040520" y="351000"/>
            <a:ext cx="2817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ös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ild 2" descr="C:\Users\Line\Desktop\Unbenannt.png"/>
          <p:cNvPicPr/>
          <p:nvPr/>
        </p:nvPicPr>
        <p:blipFill>
          <a:blip r:embed="rId1"/>
          <a:stretch/>
        </p:blipFill>
        <p:spPr>
          <a:xfrm>
            <a:off x="360360" y="5219640"/>
            <a:ext cx="4753080" cy="2025720"/>
          </a:xfrm>
          <a:prstGeom prst="rect">
            <a:avLst/>
          </a:prstGeom>
          <a:ln w="0">
            <a:noFill/>
          </a:ln>
        </p:spPr>
      </p:pic>
      <p:pic>
        <p:nvPicPr>
          <p:cNvPr id="50" name="Bild 3" descr="C:\Users\Line\Desktop\Unbenannt.png"/>
          <p:cNvPicPr/>
          <p:nvPr/>
        </p:nvPicPr>
        <p:blipFill>
          <a:blip r:embed="rId2"/>
          <a:stretch/>
        </p:blipFill>
        <p:spPr>
          <a:xfrm>
            <a:off x="5184720" y="5219640"/>
            <a:ext cx="4608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40160" y="350640"/>
            <a:ext cx="2817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ös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2) Testen Sie die Blöcke auf evtl. gekippte Bit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101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110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110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10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01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11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de-DE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0110 </a:t>
            </a:r>
            <a:r>
              <a:rPr b="0" lang="de-DE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01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100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10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00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111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000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00101 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011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1</a:t>
            </a:r>
            <a:r>
              <a:rPr b="0" lang="de-DE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1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92d050"/>
                </a:solidFill>
                <a:latin typeface="Arial"/>
              </a:rPr>
              <a:t>01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liennummernplatzhalter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721E0-C536-4835-824E-ACE36A7EED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040520" y="351000"/>
            <a:ext cx="2817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ös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Rectangle 2"/>
          <p:cNvGraphicFramePr/>
          <p:nvPr/>
        </p:nvGraphicFramePr>
        <p:xfrm>
          <a:off x="503280" y="2627280"/>
          <a:ext cx="9217080" cy="32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2627280"/>
                    <a:ext cx="92170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929016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010111001110110111 : 10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1001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000101100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10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0101111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1001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0100010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10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00101110 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1001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0100111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1001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3000"/>
              </a:lnSpc>
              <a:spcAft>
                <a:spcPts val="4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 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000001 -&gt; Das Ergebnis ist nicht null, d.h. 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gab Fehler bei der Übertrag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el 1"/>
          <p:cNvSpPr/>
          <p:nvPr/>
        </p:nvSpPr>
        <p:spPr>
          <a:xfrm>
            <a:off x="7040520" y="351000"/>
            <a:ext cx="2817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ös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8:54:27Z</dcterms:created>
  <dc:creator>Martin</dc:creator>
  <dc:description/>
  <dc:language>en-US</dc:language>
  <cp:lastModifiedBy>Notrade</cp:lastModifiedBy>
  <dcterms:modified xsi:type="dcterms:W3CDTF">2011-01-31T16:54:53Z</dcterms:modified>
  <cp:revision>53</cp:revision>
  <dc:subject/>
  <dc:title>Zahlensysteme</dc:title>
</cp:coreProperties>
</file>